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10.jpeg" ContentType="image/jpeg"/>
  <Override PartName="/ppt/media/image5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9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746875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8B44C-F6CD-41CF-8479-33A51F5FA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7721640" cy="230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440" y="3898800"/>
            <a:ext cx="7721640" cy="230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9189D-47FF-4735-864D-126BB11C3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3768120" cy="230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2200" y="1371240"/>
            <a:ext cx="3768120" cy="230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440" y="3898800"/>
            <a:ext cx="3768120" cy="230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2200" y="3898800"/>
            <a:ext cx="3768120" cy="230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88519-D54D-4EC3-919C-4CDABC417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2486160" cy="230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96160" y="1371240"/>
            <a:ext cx="2486160" cy="230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07240" y="1371240"/>
            <a:ext cx="2486160" cy="230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440" y="3898800"/>
            <a:ext cx="2486160" cy="230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96160" y="3898800"/>
            <a:ext cx="2486160" cy="230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07240" y="3898800"/>
            <a:ext cx="2486160" cy="230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93195-1FE4-4F6C-AD28-213AAE678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6F82B-1FEB-47B9-B503-43450F56A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371240"/>
            <a:ext cx="7721640" cy="48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DD5B5-81CC-4303-BB7C-618596679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7721640" cy="483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86177-C0AC-43DC-85DA-175F70CBE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3768120" cy="483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42200" y="1371240"/>
            <a:ext cx="3768120" cy="483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CF06F-3C40-429B-91C2-F41284C88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18DC4-D718-4039-A8E5-FC2CB26F5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915A3-D45E-48E8-AB4D-91D017F22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3768120" cy="230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42200" y="1371240"/>
            <a:ext cx="3768120" cy="483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898800"/>
            <a:ext cx="3768120" cy="230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9F8EE-CD60-4ECA-B033-F2B4619AE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440" y="1371240"/>
            <a:ext cx="7721640" cy="48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2E006-0563-453C-872B-5F8C35D7C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3768120" cy="483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2200" y="1371240"/>
            <a:ext cx="3768120" cy="230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42200" y="3898800"/>
            <a:ext cx="3768120" cy="230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5D9C3-E40B-4021-862D-54CD25441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3768120" cy="230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2200" y="1371240"/>
            <a:ext cx="3768120" cy="230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898800"/>
            <a:ext cx="7721640" cy="230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0F020-CD98-45F7-A159-18449D51E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7721640" cy="230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898800"/>
            <a:ext cx="7721640" cy="230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6A4E6-2EDA-45C0-B0A1-65E6BB607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3768120" cy="230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2200" y="1371240"/>
            <a:ext cx="3768120" cy="230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898800"/>
            <a:ext cx="3768120" cy="230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42200" y="3898800"/>
            <a:ext cx="3768120" cy="230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1F704-4631-4D7E-90B3-7BE42D0A2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2486160" cy="230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96160" y="1371240"/>
            <a:ext cx="2486160" cy="230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07240" y="1371240"/>
            <a:ext cx="2486160" cy="230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898800"/>
            <a:ext cx="2486160" cy="230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96160" y="3898800"/>
            <a:ext cx="2486160" cy="230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07240" y="3898800"/>
            <a:ext cx="2486160" cy="230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829EB-E9C0-456B-A7B8-3C8B8590D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7721640" cy="483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D4DFB-BD9C-4D50-B792-9DE0341DE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3768120" cy="483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2200" y="1371240"/>
            <a:ext cx="3768120" cy="483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41200-6F1B-4596-9D01-59615B6CB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1F4DF-84F6-4DC0-944C-8225FE414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A2797-547B-4E63-8E44-51A69E85A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3768120" cy="230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2200" y="1371240"/>
            <a:ext cx="3768120" cy="483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440" y="3898800"/>
            <a:ext cx="3768120" cy="230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7856D-CC86-4782-B4BF-16DA0EB28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3768120" cy="483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2200" y="1371240"/>
            <a:ext cx="3768120" cy="230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2200" y="3898800"/>
            <a:ext cx="3768120" cy="230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84C0E-512C-43FA-8B75-7D806A336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3768120" cy="230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2200" y="1371240"/>
            <a:ext cx="3768120" cy="230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440" y="3898800"/>
            <a:ext cx="7721640" cy="230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2B055-EFA4-4E0C-B34B-3E906FF26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371240"/>
            <a:ext cx="7721640" cy="483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33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33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504F8-0CD2-441A-BD75-B78A1D352D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11360" y="1257480"/>
            <a:ext cx="7772400" cy="0"/>
          </a:xfrm>
          <a:prstGeom prst="line">
            <a:avLst/>
          </a:prstGeom>
          <a:ln cap="sq"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6675B-8B78-4829-8219-5DA43D789C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3366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676520" y="228564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imes New Roman"/>
              </a:rPr>
              <a:t>Front-end electronics developments for OPERA</a:t>
            </a:r>
            <a:endParaRPr b="1" lang="en-US" sz="36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057400" y="3885840"/>
            <a:ext cx="640080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ff"/>
                </a:solidFill>
                <a:latin typeface="Times New Roman"/>
              </a:rPr>
              <a:t>C. de LA TAILLE, G. MARTIN-CHASSARD, L. RAUX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Times New Roman"/>
              </a:rPr>
              <a:t>LAL Orsa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ff"/>
                </a:solidFill>
                <a:latin typeface="Times New Roman"/>
              </a:rPr>
              <a:t>T.D. LE, P. SCHMIT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Times New Roman"/>
              </a:rPr>
              <a:t>IRES Strasbour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:/www.lal.in2p3.fr/technique/se/opera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457200" y="380880"/>
            <a:ext cx="2203560" cy="16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3" name="" descr=""/>
          <p:cNvPicPr/>
          <p:nvPr/>
        </p:nvPicPr>
        <p:blipFill>
          <a:blip r:embed="rId1"/>
          <a:stretch/>
        </p:blipFill>
        <p:spPr>
          <a:xfrm>
            <a:off x="4572000" y="2971800"/>
            <a:ext cx="3876840" cy="3352680"/>
          </a:xfrm>
          <a:prstGeom prst="rect">
            <a:avLst/>
          </a:prstGeom>
          <a:ln w="0">
            <a:noFill/>
          </a:ln>
        </p:spPr>
      </p:pic>
      <p:pic>
        <p:nvPicPr>
          <p:cNvPr id="804" name="NOISE" descr=""/>
          <p:cNvPicPr/>
          <p:nvPr/>
        </p:nvPicPr>
        <p:blipFill>
          <a:blip r:embed="rId2"/>
          <a:stretch/>
        </p:blipFill>
        <p:spPr>
          <a:xfrm>
            <a:off x="304920" y="2971800"/>
            <a:ext cx="4095720" cy="3344760"/>
          </a:xfrm>
          <a:prstGeom prst="rect">
            <a:avLst/>
          </a:prstGeom>
          <a:ln w="0">
            <a:noFill/>
          </a:ln>
        </p:spPr>
      </p:pic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Noise measurements</a:t>
            </a:r>
            <a:endParaRPr b="1" lang="en-US" sz="2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HPD preamp (2000/0.8 PMOS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= 0.5 mA, g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= 7.1 mA/V, 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 = 1.7 nV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  <a:ea typeface="Times New Roman"/>
              </a:rPr>
              <a:t>√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Hz</a:t>
            </a:r>
            <a:r>
              <a:rPr b="1" lang="en-US" sz="1600" spc="-1" strike="noStrike">
                <a:solidFill>
                  <a:srgbClr val="ff00ff"/>
                </a:solidFill>
                <a:latin typeface="Times New Roman"/>
              </a:rPr>
              <a:t>, </a:t>
            </a:r>
            <a:r>
              <a:rPr b="1" lang="en-US" sz="1600" spc="-1" strike="noStrike">
                <a:solidFill>
                  <a:srgbClr val="009900"/>
                </a:solidFill>
                <a:latin typeface="Times New Roman"/>
              </a:rPr>
              <a:t>C</a:t>
            </a:r>
            <a:r>
              <a:rPr b="1" lang="en-US" sz="1600" spc="-1" strike="noStrike" baseline="-25000">
                <a:solidFill>
                  <a:srgbClr val="009900"/>
                </a:solidFill>
                <a:latin typeface="Times New Roman"/>
              </a:rPr>
              <a:t>a</a:t>
            </a:r>
            <a:r>
              <a:rPr b="1" lang="en-US" sz="1600" spc="-1" strike="noStrike">
                <a:solidFill>
                  <a:srgbClr val="009900"/>
                </a:solidFill>
                <a:latin typeface="Times New Roman"/>
              </a:rPr>
              <a:t> = 8 pF,  </a:t>
            </a: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ENC(75ns,6pF)=550 e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ignificant gate resistance (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~ 80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. and substrate resistance noise con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TLAS 10 000/0.8 AMS PMOS transistor 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= 0.5 mA, g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= 8 mA/V, </a:t>
            </a:r>
            <a:r>
              <a:rPr b="1" lang="en-US" sz="1600" spc="-1" strike="noStrike">
                <a:solidFill>
                  <a:srgbClr val="009900"/>
                </a:solidFill>
                <a:latin typeface="Times New Roman"/>
              </a:rPr>
              <a:t>e</a:t>
            </a:r>
            <a:r>
              <a:rPr b="1" lang="en-US" sz="1600" spc="-1" strike="noStrike" baseline="-25000">
                <a:solidFill>
                  <a:srgbClr val="009900"/>
                </a:solidFill>
                <a:latin typeface="Times New Roman"/>
              </a:rPr>
              <a:t>n</a:t>
            </a:r>
            <a:r>
              <a:rPr b="1" lang="en-US" sz="1600" spc="-1" strike="noStrike">
                <a:solidFill>
                  <a:srgbClr val="009900"/>
                </a:solidFill>
                <a:latin typeface="Times New Roman"/>
              </a:rPr>
              <a:t> = 1.0 nV/</a:t>
            </a:r>
            <a:r>
              <a:rPr b="1" lang="en-US" sz="16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√</a:t>
            </a:r>
            <a:r>
              <a:rPr b="1" lang="en-US" sz="1600" spc="-1" strike="noStrike">
                <a:solidFill>
                  <a:srgbClr val="009900"/>
                </a:solidFill>
                <a:latin typeface="Times New Roman"/>
              </a:rPr>
              <a:t>Hz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 = 21 p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inimum gate resistance (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~ 2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 and substrate resistance noise con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2309760" y="1733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228600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1800360" y="157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1981080" y="125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1981080" y="125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2676600" y="1881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3238560" y="24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2503080" y="3200400"/>
            <a:ext cx="138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HPD pream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6370560" y="3200400"/>
            <a:ext cx="178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10000/0.8 PM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dLT         Opera collaboration mee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9C2D4-3258-40ED-89E7-B80522E7AC8C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9 jul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Noise improvement </a:t>
            </a:r>
            <a:endParaRPr b="1" lang="en-US" sz="2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ew layout for ~50% noise improveme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ize : 2000/0.8 similar transconductance (7 mA/V) with smaller capacitance  (8 pF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fferent geometry to </a:t>
            </a:r>
            <a:r>
              <a:rPr b="0" lang="en-US" sz="1600" spc="-1" strike="noStrike">
                <a:solidFill>
                  <a:srgbClr val="009900"/>
                </a:solidFill>
                <a:latin typeface="Times New Roman"/>
              </a:rPr>
              <a:t>minimize gate resistanc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(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: 80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2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00"/>
                </a:solidFill>
                <a:latin typeface="Times New Roman"/>
              </a:rPr>
              <a:t>Bias substrat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positively  (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B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= +2V) to mimimize substrate noise con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arget :  </a:t>
            </a:r>
            <a:r>
              <a:rPr b="1" lang="en-US" sz="1600" spc="-1" strike="noStrike">
                <a:solidFill>
                  <a:srgbClr val="009900"/>
                </a:solidFill>
                <a:latin typeface="Times New Roman"/>
              </a:rPr>
              <a:t>e</a:t>
            </a:r>
            <a:r>
              <a:rPr b="1" lang="en-US" sz="1600" spc="-1" strike="noStrike" baseline="-25000">
                <a:solidFill>
                  <a:srgbClr val="009900"/>
                </a:solidFill>
                <a:latin typeface="Times New Roman"/>
              </a:rPr>
              <a:t>n</a:t>
            </a:r>
            <a:r>
              <a:rPr b="1" lang="en-US" sz="1600" spc="-1" strike="noStrike">
                <a:solidFill>
                  <a:srgbClr val="009900"/>
                </a:solidFill>
                <a:latin typeface="Times New Roman"/>
              </a:rPr>
              <a:t> = 1.0 nV/</a:t>
            </a:r>
            <a:r>
              <a:rPr b="1" lang="en-US" sz="16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√</a:t>
            </a:r>
            <a:r>
              <a:rPr b="1" lang="en-US" sz="1600" spc="-1" strike="noStrike">
                <a:solidFill>
                  <a:srgbClr val="009900"/>
                </a:solidFill>
                <a:latin typeface="Times New Roman"/>
              </a:rPr>
              <a:t>Hz, C</a:t>
            </a:r>
            <a:r>
              <a:rPr b="1" lang="en-US" sz="1600" spc="-1" strike="noStrike" baseline="-25000">
                <a:solidFill>
                  <a:srgbClr val="009900"/>
                </a:solidFill>
                <a:latin typeface="Times New Roman"/>
              </a:rPr>
              <a:t>a</a:t>
            </a:r>
            <a:r>
              <a:rPr b="1" lang="en-US" sz="1600" spc="-1" strike="noStrike">
                <a:solidFill>
                  <a:srgbClr val="009900"/>
                </a:solidFill>
                <a:latin typeface="Times New Roman"/>
              </a:rPr>
              <a:t> = 8 pF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t  I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= 0.5 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2309760" y="1733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228600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1800360" y="157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1981080" y="125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1981080" y="125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5893920" y="4570560"/>
            <a:ext cx="2745360" cy="19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urrent design : 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= 6 pF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C = 550 e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@ 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= 75 n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C = 300 e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@ 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= 500 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Goal :   (with C</a:t>
            </a:r>
            <a:r>
              <a:rPr b="0" lang="en-US" sz="1800" spc="-1" strike="noStrike" baseline="-25000">
                <a:solidFill>
                  <a:srgbClr val="0000ff"/>
                </a:solidFill>
                <a:latin typeface="Times New Roman"/>
              </a:rPr>
              <a:t>d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 = 6 pF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ENC = 300 e</a:t>
            </a:r>
            <a:r>
              <a:rPr b="0" lang="en-US" sz="1800" spc="-1" strike="noStrike" baseline="30000">
                <a:solidFill>
                  <a:srgbClr val="0000ff"/>
                </a:solidFill>
                <a:latin typeface="Times New Roman"/>
              </a:rPr>
              <a:t>-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 @ t</a:t>
            </a:r>
            <a:r>
              <a:rPr b="0" lang="en-US" sz="1800" spc="-1" strike="noStrike" baseline="-25000">
                <a:solidFill>
                  <a:srgbClr val="0000ff"/>
                </a:solidFill>
                <a:latin typeface="Times New Roman"/>
              </a:rPr>
              <a:t>p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 = 75 n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ENC = 150 e</a:t>
            </a:r>
            <a:r>
              <a:rPr b="0" lang="en-US" sz="1800" spc="-1" strike="noStrike" baseline="30000">
                <a:solidFill>
                  <a:srgbClr val="0000ff"/>
                </a:solidFill>
                <a:latin typeface="Times New Roman"/>
              </a:rPr>
              <a:t>-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 @ t</a:t>
            </a:r>
            <a:r>
              <a:rPr b="0" lang="en-US" sz="1800" spc="-1" strike="noStrike" baseline="-25000">
                <a:solidFill>
                  <a:srgbClr val="0000ff"/>
                </a:solidFill>
                <a:latin typeface="Times New Roman"/>
              </a:rPr>
              <a:t>p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 = 500 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4" name="" descr=""/>
          <p:cNvPicPr/>
          <p:nvPr/>
        </p:nvPicPr>
        <p:blipFill>
          <a:blip r:embed="rId1"/>
          <a:stretch/>
        </p:blipFill>
        <p:spPr>
          <a:xfrm>
            <a:off x="762120" y="2870280"/>
            <a:ext cx="4419360" cy="3454200"/>
          </a:xfrm>
          <a:prstGeom prst="rect">
            <a:avLst/>
          </a:prstGeom>
          <a:ln w="0">
            <a:noFill/>
          </a:ln>
        </p:spPr>
      </p:pic>
      <p:sp>
        <p:nvSpPr>
          <p:cNvPr id="825" name=""/>
          <p:cNvSpPr/>
          <p:nvPr/>
        </p:nvSpPr>
        <p:spPr>
          <a:xfrm flipH="1" flipV="1">
            <a:off x="3047760" y="4876560"/>
            <a:ext cx="2819160" cy="990360"/>
          </a:xfrm>
          <a:prstGeom prst="line">
            <a:avLst/>
          </a:prstGeom>
          <a:ln cap="sq"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 flipH="1" flipV="1">
            <a:off x="4419360" y="5486040"/>
            <a:ext cx="1447560" cy="609480"/>
          </a:xfrm>
          <a:prstGeom prst="line">
            <a:avLst/>
          </a:prstGeom>
          <a:ln cap="sq"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5414040" y="2805120"/>
            <a:ext cx="2865600" cy="165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pacitance breakdown 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349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MOS : 2.5 p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349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put pads : 0.8 p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349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+C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inj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: 0.5 p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349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ackage : 1 p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349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CB : 2.4 p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2819520" y="4267080"/>
            <a:ext cx="75960" cy="76320"/>
          </a:xfrm>
          <a:prstGeom prst="ellipse">
            <a:avLst/>
          </a:prstGeom>
          <a:solidFill>
            <a:srgbClr val="ff9999"/>
          </a:solidFill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4267080" y="4876920"/>
            <a:ext cx="76320" cy="75960"/>
          </a:xfrm>
          <a:prstGeom prst="ellipse">
            <a:avLst/>
          </a:prstGeom>
          <a:solidFill>
            <a:srgbClr val="ff9999"/>
          </a:solidFill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2819520" y="4876920"/>
            <a:ext cx="75960" cy="75960"/>
          </a:xfrm>
          <a:prstGeom prst="ellipse">
            <a:avLst/>
          </a:prstGeom>
          <a:solidFill>
            <a:srgbClr val="ff9999"/>
          </a:solidFill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4267080" y="5334120"/>
            <a:ext cx="76320" cy="75960"/>
          </a:xfrm>
          <a:prstGeom prst="ellipse">
            <a:avLst/>
          </a:prstGeom>
          <a:solidFill>
            <a:srgbClr val="ff9999"/>
          </a:solidFill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 flipH="1" flipV="1">
            <a:off x="4419720" y="4952520"/>
            <a:ext cx="1371600" cy="304920"/>
          </a:xfrm>
          <a:prstGeom prst="line">
            <a:avLst/>
          </a:prstGeom>
          <a:ln cap="sq"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 flipH="1" flipV="1">
            <a:off x="2971440" y="4343040"/>
            <a:ext cx="2895480" cy="685800"/>
          </a:xfrm>
          <a:prstGeom prst="line">
            <a:avLst/>
          </a:prstGeom>
          <a:ln cap="sq"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dLT         Opera collaboration mee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5BFE9-7C25-408E-BCD0-97B659568AD7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9 jul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Measurement results (II) </a:t>
            </a:r>
            <a:endParaRPr b="1" lang="en-US" sz="2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low shap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= 500 ns  G = 2.7 mV/photoelect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inearity :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±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0.5 % up to 300 photoelectro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ast shap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upling with preamp inputs -&gt; oscill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uld only be measured separate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2309760" y="1733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228600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1800360" y="157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1981080" y="125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3238560" y="24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1" name="SIGSLOWN" descr=""/>
          <p:cNvPicPr/>
          <p:nvPr/>
        </p:nvPicPr>
        <p:blipFill>
          <a:blip r:embed="rId1"/>
          <a:stretch/>
        </p:blipFill>
        <p:spPr>
          <a:xfrm>
            <a:off x="4800600" y="1314360"/>
            <a:ext cx="3429000" cy="2571840"/>
          </a:xfrm>
          <a:prstGeom prst="rect">
            <a:avLst/>
          </a:prstGeom>
          <a:ln w="0">
            <a:noFill/>
          </a:ln>
        </p:spPr>
      </p:pic>
      <p:sp>
        <p:nvSpPr>
          <p:cNvPr id="842" name=""/>
          <p:cNvSpPr/>
          <p:nvPr/>
        </p:nvSpPr>
        <p:spPr>
          <a:xfrm>
            <a:off x="3238560" y="24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3" name="SIGFASTN" descr=""/>
          <p:cNvPicPr/>
          <p:nvPr/>
        </p:nvPicPr>
        <p:blipFill>
          <a:blip r:embed="rId2"/>
          <a:stretch/>
        </p:blipFill>
        <p:spPr>
          <a:xfrm>
            <a:off x="4800600" y="3733920"/>
            <a:ext cx="3505320" cy="2628720"/>
          </a:xfrm>
          <a:prstGeom prst="rect">
            <a:avLst/>
          </a:prstGeom>
          <a:ln w="0">
            <a:noFill/>
          </a:ln>
        </p:spPr>
      </p:pic>
      <p:sp>
        <p:nvSpPr>
          <p:cNvPr id="844" name=""/>
          <p:cNvSpPr/>
          <p:nvPr/>
        </p:nvSpPr>
        <p:spPr>
          <a:xfrm>
            <a:off x="3238560" y="24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3238560" y="24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6" name="RESSLOWL" descr=""/>
          <p:cNvPicPr/>
          <p:nvPr/>
        </p:nvPicPr>
        <p:blipFill>
          <a:blip r:embed="rId3"/>
          <a:stretch/>
        </p:blipFill>
        <p:spPr>
          <a:xfrm>
            <a:off x="838080" y="2286000"/>
            <a:ext cx="3429000" cy="2571840"/>
          </a:xfrm>
          <a:prstGeom prst="rect">
            <a:avLst/>
          </a:prstGeom>
          <a:ln w="0">
            <a:noFill/>
          </a:ln>
        </p:spPr>
      </p:pic>
      <p:sp>
        <p:nvSpPr>
          <p:cNvPr id="847" name=""/>
          <p:cNvSpPr/>
          <p:nvPr/>
        </p:nvSpPr>
        <p:spPr>
          <a:xfrm>
            <a:off x="1322640" y="4311720"/>
            <a:ext cx="3088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</a:rPr>
              <a:t>Slow shaper : Residuals of linear f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1981800" y="365760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Times New Roman"/>
                <a:ea typeface="Times New Roman"/>
              </a:rPr>
              <a:t>± 0.5 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1295280" y="2590920"/>
            <a:ext cx="2667240" cy="0"/>
          </a:xfrm>
          <a:prstGeom prst="line">
            <a:avLst/>
          </a:prstGeom>
          <a:ln cap="sq"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1295280" y="3733920"/>
            <a:ext cx="2667240" cy="0"/>
          </a:xfrm>
          <a:prstGeom prst="line">
            <a:avLst/>
          </a:prstGeom>
          <a:ln cap="sq"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5757480" y="3276720"/>
            <a:ext cx="239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Slow shaper Qin=10p.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6520680" y="4952880"/>
            <a:ext cx="230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Fast shaper Qin=10p.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dLT         Opera collaboration mee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6A5B8-72E4-4FB9-A7F7-3CAA58CA4B5C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9 jul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Measurement results (III)</a:t>
            </a:r>
            <a:endParaRPr b="1" lang="en-US" sz="2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ck and hol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l channels functio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edestal variation : ~ 100 mV : to be impr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utput multiplexer : 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iscriminato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ow offset desig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 yet tes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2309760" y="1733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228600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1800360" y="157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1981080" y="125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3238560" y="24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3238560" y="24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3238560" y="24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3238560" y="24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dLT         Opera collaboration mee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CF3FA-8CB4-4B00-9D82-8FE1DDD5FFC7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9 jul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Conclusion </a:t>
            </a:r>
            <a:endParaRPr b="1" lang="en-US" sz="2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MT chip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oth designs fully functio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ower noise with common base but more robust design with current mirr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od noise (~ 0.01 p.e.), linearity in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±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1% up to ~ 100 photoelectro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st trigger output (12 n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HPD chi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nly partially functional (oscillations in fast shap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ise : 550e- = 0.2 p.e. at t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= 75 ns, C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= 6pF ; 300e- at t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= 500 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eamp noise can be decreased by 50%, down to </a:t>
            </a:r>
            <a:r>
              <a:rPr b="0" lang="en-US" sz="1600" spc="-1" strike="noStrike">
                <a:solidFill>
                  <a:srgbClr val="009900"/>
                </a:solidFill>
                <a:latin typeface="Times New Roman"/>
              </a:rPr>
              <a:t>1.0 nV/</a:t>
            </a:r>
            <a:r>
              <a:rPr b="0" lang="en-US" sz="16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√</a:t>
            </a:r>
            <a:r>
              <a:rPr b="0" lang="en-US" sz="1600" spc="-1" strike="noStrike">
                <a:solidFill>
                  <a:srgbClr val="009900"/>
                </a:solidFill>
                <a:latin typeface="Times New Roman"/>
              </a:rPr>
              <a:t>Hz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or 300 e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t t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= 75 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inear within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±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0.5% up to ~ 300 photoelectro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eady for one iter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fter detector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ll scale prototype 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2309760" y="1733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228600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1800360" y="157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1981080" y="125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dLT         Opera collaboration mee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144B2-659F-42EE-91D0-89BC98879BB3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9 jul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Variable gain preamp for PMT</a:t>
            </a:r>
            <a:endParaRPr b="1" lang="en-US" sz="2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mmon base architect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</a:rPr>
              <a:t>Fast current integrato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: 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/I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= 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/(1+ s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ow input impedance (1/g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=250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 -&gt; </a:t>
            </a:r>
            <a:r>
              <a:rPr b="0" lang="en-US" sz="1600" spc="-1" strike="noStrike">
                <a:solidFill>
                  <a:srgbClr val="009900"/>
                </a:solidFill>
                <a:latin typeface="Times New Roman"/>
              </a:rPr>
              <a:t>crosstalk redu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ain variation by changing C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from10 pF to 45 pF (3 bits) -&gt; can easily be extend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cay time kept constant (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= 200 ns) by also switching resis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309760" y="1733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535320" y="2970720"/>
            <a:ext cx="6246000" cy="3043800"/>
            <a:chOff x="535320" y="2970720"/>
            <a:chExt cx="6246000" cy="3043800"/>
          </a:xfrm>
        </p:grpSpPr>
        <p:sp>
          <p:nvSpPr>
            <p:cNvPr id="90" name=""/>
            <p:cNvSpPr/>
            <p:nvPr/>
          </p:nvSpPr>
          <p:spPr>
            <a:xfrm flipH="1">
              <a:off x="2837880" y="4338720"/>
              <a:ext cx="2832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1" name=""/>
            <p:cNvGrpSpPr/>
            <p:nvPr/>
          </p:nvGrpSpPr>
          <p:grpSpPr>
            <a:xfrm>
              <a:off x="3906360" y="5509800"/>
              <a:ext cx="284400" cy="188280"/>
              <a:chOff x="3906360" y="5509800"/>
              <a:chExt cx="284400" cy="188280"/>
            </a:xfrm>
          </p:grpSpPr>
          <p:sp>
            <p:nvSpPr>
              <p:cNvPr id="92" name=""/>
              <p:cNvSpPr/>
              <p:nvPr/>
            </p:nvSpPr>
            <p:spPr>
              <a:xfrm>
                <a:off x="3962880" y="5603400"/>
                <a:ext cx="225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>
                <a:off x="3906360" y="5603400"/>
                <a:ext cx="57240" cy="9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flipH="1">
                <a:off x="4019760" y="5603400"/>
                <a:ext cx="57240" cy="9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flipH="1">
                <a:off x="4133520" y="5603400"/>
                <a:ext cx="57240" cy="9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flipV="1">
                <a:off x="4075200" y="5509800"/>
                <a:ext cx="0" cy="93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" name=""/>
            <p:cNvGrpSpPr/>
            <p:nvPr/>
          </p:nvGrpSpPr>
          <p:grpSpPr>
            <a:xfrm>
              <a:off x="4581360" y="5509800"/>
              <a:ext cx="284400" cy="188280"/>
              <a:chOff x="4581360" y="5509800"/>
              <a:chExt cx="284400" cy="188280"/>
            </a:xfrm>
          </p:grpSpPr>
          <p:sp>
            <p:nvSpPr>
              <p:cNvPr id="98" name=""/>
              <p:cNvSpPr/>
              <p:nvPr/>
            </p:nvSpPr>
            <p:spPr>
              <a:xfrm>
                <a:off x="4637880" y="5603400"/>
                <a:ext cx="225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flipH="1">
                <a:off x="4581360" y="5603400"/>
                <a:ext cx="57240" cy="9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flipH="1">
                <a:off x="4694760" y="5603400"/>
                <a:ext cx="57240" cy="9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4808520" y="5603400"/>
                <a:ext cx="57240" cy="9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flipV="1">
                <a:off x="4750200" y="5509800"/>
                <a:ext cx="0" cy="93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256360" y="5509800"/>
              <a:ext cx="284400" cy="188280"/>
              <a:chOff x="5256360" y="5509800"/>
              <a:chExt cx="284400" cy="188280"/>
            </a:xfrm>
          </p:grpSpPr>
          <p:sp>
            <p:nvSpPr>
              <p:cNvPr id="104" name=""/>
              <p:cNvSpPr/>
              <p:nvPr/>
            </p:nvSpPr>
            <p:spPr>
              <a:xfrm>
                <a:off x="5312880" y="5603400"/>
                <a:ext cx="225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flipH="1">
                <a:off x="5256360" y="5603400"/>
                <a:ext cx="57240" cy="9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flipH="1">
                <a:off x="5369760" y="5603400"/>
                <a:ext cx="57240" cy="9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flipH="1">
                <a:off x="5483520" y="5603400"/>
                <a:ext cx="57240" cy="9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V="1">
                <a:off x="5425200" y="5509800"/>
                <a:ext cx="0" cy="93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2499840" y="5181120"/>
              <a:ext cx="284040" cy="188280"/>
              <a:chOff x="2499840" y="5181120"/>
              <a:chExt cx="284040" cy="188280"/>
            </a:xfrm>
          </p:grpSpPr>
          <p:sp>
            <p:nvSpPr>
              <p:cNvPr id="110" name=""/>
              <p:cNvSpPr/>
              <p:nvPr/>
            </p:nvSpPr>
            <p:spPr>
              <a:xfrm>
                <a:off x="2556000" y="5274720"/>
                <a:ext cx="2246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2499840" y="5274720"/>
                <a:ext cx="57240" cy="9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H="1">
                <a:off x="2613240" y="5274720"/>
                <a:ext cx="57240" cy="9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>
                <a:off x="2726640" y="5274720"/>
                <a:ext cx="57240" cy="9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668680" y="5181120"/>
                <a:ext cx="0" cy="93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2500200" y="4338360"/>
              <a:ext cx="337320" cy="234000"/>
              <a:chOff x="2500200" y="4338360"/>
              <a:chExt cx="337320" cy="234000"/>
            </a:xfrm>
          </p:grpSpPr>
          <p:sp>
            <p:nvSpPr>
              <p:cNvPr id="116" name=""/>
              <p:cNvSpPr/>
              <p:nvPr/>
            </p:nvSpPr>
            <p:spPr>
              <a:xfrm flipH="1" flipV="1">
                <a:off x="2500200" y="4338360"/>
                <a:ext cx="112320" cy="140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V="1">
                <a:off x="2724840" y="4338360"/>
                <a:ext cx="112320" cy="140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500200" y="4478760"/>
                <a:ext cx="3373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2668680" y="4478760"/>
                <a:ext cx="0" cy="93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0" name=""/>
            <p:cNvSpPr/>
            <p:nvPr/>
          </p:nvSpPr>
          <p:spPr>
            <a:xfrm flipV="1">
              <a:off x="3175560" y="4151520"/>
              <a:ext cx="0" cy="37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>
              <a:off x="4075200" y="4151520"/>
              <a:ext cx="0" cy="37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>
              <a:off x="4750560" y="4151520"/>
              <a:ext cx="0" cy="37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flipV="1">
              <a:off x="5425560" y="4151520"/>
              <a:ext cx="0" cy="37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>
              <a:off x="2162880" y="4994640"/>
              <a:ext cx="0" cy="18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 flipV="1">
              <a:off x="2669040" y="4572720"/>
              <a:ext cx="0" cy="608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 flipV="1">
              <a:off x="4075200" y="5322600"/>
              <a:ext cx="0" cy="18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flipV="1">
              <a:off x="4750560" y="5322600"/>
              <a:ext cx="0" cy="18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flipV="1">
              <a:off x="5425560" y="5322600"/>
              <a:ext cx="0" cy="18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 flipV="1">
              <a:off x="4075200" y="3683160"/>
              <a:ext cx="0" cy="93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flipV="1">
              <a:off x="4750560" y="4807440"/>
              <a:ext cx="0" cy="18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flipV="1">
              <a:off x="5425560" y="4807440"/>
              <a:ext cx="0" cy="18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V="1">
              <a:off x="3175560" y="3261240"/>
              <a:ext cx="0" cy="421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3" name=""/>
            <p:cNvGrpSpPr/>
            <p:nvPr/>
          </p:nvGrpSpPr>
          <p:grpSpPr>
            <a:xfrm>
              <a:off x="1262160" y="5181840"/>
              <a:ext cx="284400" cy="188280"/>
              <a:chOff x="1262160" y="5181840"/>
              <a:chExt cx="284400" cy="188280"/>
            </a:xfrm>
          </p:grpSpPr>
          <p:sp>
            <p:nvSpPr>
              <p:cNvPr id="134" name=""/>
              <p:cNvSpPr/>
              <p:nvPr/>
            </p:nvSpPr>
            <p:spPr>
              <a:xfrm>
                <a:off x="1318320" y="5275440"/>
                <a:ext cx="225000" cy="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flipH="1">
                <a:off x="1262160" y="5275440"/>
                <a:ext cx="57240" cy="9468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flipH="1">
                <a:off x="1375560" y="5275440"/>
                <a:ext cx="57240" cy="9468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>
                <a:off x="1489320" y="5275440"/>
                <a:ext cx="57240" cy="9468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 flipV="1">
                <a:off x="1431360" y="5181840"/>
                <a:ext cx="0" cy="9360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868320" y="5181840"/>
              <a:ext cx="284400" cy="187920"/>
              <a:chOff x="868320" y="5181840"/>
              <a:chExt cx="284400" cy="187920"/>
            </a:xfrm>
          </p:grpSpPr>
          <p:sp>
            <p:nvSpPr>
              <p:cNvPr id="140" name=""/>
              <p:cNvSpPr/>
              <p:nvPr/>
            </p:nvSpPr>
            <p:spPr>
              <a:xfrm flipH="1">
                <a:off x="868320" y="5275440"/>
                <a:ext cx="57240" cy="9432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 flipH="1">
                <a:off x="981720" y="5275440"/>
                <a:ext cx="57240" cy="9432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 flipH="1">
                <a:off x="1095480" y="5275440"/>
                <a:ext cx="57240" cy="9432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924840" y="5275440"/>
                <a:ext cx="225000" cy="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 flipV="1">
                <a:off x="1037160" y="5181840"/>
                <a:ext cx="0" cy="9360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5" name=""/>
            <p:cNvSpPr/>
            <p:nvPr/>
          </p:nvSpPr>
          <p:spPr>
            <a:xfrm flipV="1">
              <a:off x="1431360" y="4901040"/>
              <a:ext cx="0" cy="2808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flipH="1">
              <a:off x="1937520" y="4338720"/>
              <a:ext cx="56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V="1">
              <a:off x="2162880" y="4338720"/>
              <a:ext cx="0" cy="280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V="1">
              <a:off x="1431360" y="4338360"/>
              <a:ext cx="0" cy="32796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037520" y="4338720"/>
              <a:ext cx="86364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175560" y="4807440"/>
              <a:ext cx="0" cy="1077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175560" y="5884560"/>
              <a:ext cx="2475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670720" y="4338720"/>
              <a:ext cx="449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650560" y="5884560"/>
              <a:ext cx="449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147120" y="4315680"/>
              <a:ext cx="56160" cy="464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403280" y="4315680"/>
              <a:ext cx="56160" cy="464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134440" y="4315680"/>
              <a:ext cx="56160" cy="464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722480" y="4315680"/>
              <a:ext cx="55800" cy="464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397480" y="4315680"/>
              <a:ext cx="55800" cy="464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047480" y="4315680"/>
              <a:ext cx="55800" cy="464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0" name=""/>
            <p:cNvGrpSpPr/>
            <p:nvPr/>
          </p:nvGrpSpPr>
          <p:grpSpPr>
            <a:xfrm>
              <a:off x="2948760" y="2971080"/>
              <a:ext cx="455040" cy="290520"/>
              <a:chOff x="2948760" y="2971080"/>
              <a:chExt cx="455040" cy="290520"/>
            </a:xfrm>
          </p:grpSpPr>
          <p:grpSp>
            <p:nvGrpSpPr>
              <p:cNvPr id="161" name=""/>
              <p:cNvGrpSpPr/>
              <p:nvPr/>
            </p:nvGrpSpPr>
            <p:grpSpPr>
              <a:xfrm>
                <a:off x="3062160" y="3168000"/>
                <a:ext cx="225000" cy="93600"/>
                <a:chOff x="3062160" y="3168000"/>
                <a:chExt cx="225000" cy="93600"/>
              </a:xfrm>
            </p:grpSpPr>
            <p:sp>
              <p:nvSpPr>
                <p:cNvPr id="162" name=""/>
                <p:cNvSpPr/>
                <p:nvPr/>
              </p:nvSpPr>
              <p:spPr>
                <a:xfrm>
                  <a:off x="3175200" y="3168000"/>
                  <a:ext cx="0" cy="93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 flipH="1">
                  <a:off x="3062160" y="3168000"/>
                  <a:ext cx="225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4" name=""/>
              <p:cNvSpPr/>
              <p:nvPr/>
            </p:nvSpPr>
            <p:spPr>
              <a:xfrm>
                <a:off x="2948760" y="2971080"/>
                <a:ext cx="4550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VDD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5" name=""/>
            <p:cNvSpPr/>
            <p:nvPr/>
          </p:nvSpPr>
          <p:spPr>
            <a:xfrm>
              <a:off x="2162880" y="5181840"/>
              <a:ext cx="0" cy="93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2049840" y="5275800"/>
              <a:ext cx="225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931760" y="5222160"/>
              <a:ext cx="46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VS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8" name=""/>
            <p:cNvGrpSpPr/>
            <p:nvPr/>
          </p:nvGrpSpPr>
          <p:grpSpPr>
            <a:xfrm>
              <a:off x="1318680" y="4636440"/>
              <a:ext cx="660960" cy="280440"/>
              <a:chOff x="1318680" y="4636440"/>
              <a:chExt cx="660960" cy="2804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1318680" y="4636440"/>
                <a:ext cx="224640" cy="280440"/>
                <a:chOff x="1318680" y="4636440"/>
                <a:chExt cx="224640" cy="2804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1318680" y="4823640"/>
                  <a:ext cx="224640" cy="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1318680" y="4729680"/>
                  <a:ext cx="224640" cy="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1430640" y="4823640"/>
                  <a:ext cx="0" cy="932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440" bIns="46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1430640" y="4636440"/>
                  <a:ext cx="0" cy="932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440" bIns="46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4" name=""/>
              <p:cNvSpPr/>
              <p:nvPr/>
            </p:nvSpPr>
            <p:spPr>
              <a:xfrm>
                <a:off x="1413360" y="4639320"/>
                <a:ext cx="566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00"/>
                    </a:solidFill>
                    <a:latin typeface="Times New Roman"/>
                  </a:rPr>
                  <a:t>C lin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535320" y="4573080"/>
              <a:ext cx="586080" cy="421200"/>
              <a:chOff x="535320" y="4573080"/>
              <a:chExt cx="586080" cy="421200"/>
            </a:xfrm>
          </p:grpSpPr>
          <p:grpSp>
            <p:nvGrpSpPr>
              <p:cNvPr id="176" name=""/>
              <p:cNvGrpSpPr/>
              <p:nvPr/>
            </p:nvGrpSpPr>
            <p:grpSpPr>
              <a:xfrm>
                <a:off x="952920" y="4573080"/>
                <a:ext cx="168480" cy="421200"/>
                <a:chOff x="952920" y="4573080"/>
                <a:chExt cx="168480" cy="421200"/>
              </a:xfrm>
            </p:grpSpPr>
            <p:grpSp>
              <p:nvGrpSpPr>
                <p:cNvPr id="177" name=""/>
                <p:cNvGrpSpPr/>
                <p:nvPr/>
              </p:nvGrpSpPr>
              <p:grpSpPr>
                <a:xfrm>
                  <a:off x="952920" y="4666680"/>
                  <a:ext cx="168480" cy="234000"/>
                  <a:chOff x="952920" y="4666680"/>
                  <a:chExt cx="168480" cy="234000"/>
                </a:xfrm>
              </p:grpSpPr>
              <p:sp>
                <p:nvSpPr>
                  <p:cNvPr id="178" name=""/>
                  <p:cNvSpPr/>
                  <p:nvPr/>
                </p:nvSpPr>
                <p:spPr>
                  <a:xfrm>
                    <a:off x="952920" y="4760280"/>
                    <a:ext cx="168480" cy="1404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9" name=""/>
                  <p:cNvSpPr/>
                  <p:nvPr/>
                </p:nvSpPr>
                <p:spPr>
                  <a:xfrm>
                    <a:off x="952920" y="4666680"/>
                    <a:ext cx="168480" cy="1404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80" name=""/>
                <p:cNvSpPr/>
                <p:nvPr/>
              </p:nvSpPr>
              <p:spPr>
                <a:xfrm flipV="1">
                  <a:off x="1037160" y="4900680"/>
                  <a:ext cx="0" cy="9360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 flipV="1">
                  <a:off x="1037160" y="4573080"/>
                  <a:ext cx="0" cy="9360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2" name=""/>
              <p:cNvSpPr/>
              <p:nvPr/>
            </p:nvSpPr>
            <p:spPr>
              <a:xfrm flipV="1">
                <a:off x="868320" y="4596120"/>
                <a:ext cx="0" cy="37476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535320" y="4645080"/>
                <a:ext cx="4064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00"/>
                    </a:solidFill>
                    <a:latin typeface="Times New Roman"/>
                  </a:rPr>
                  <a:t>I i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4" name=""/>
            <p:cNvGrpSpPr/>
            <p:nvPr/>
          </p:nvGrpSpPr>
          <p:grpSpPr>
            <a:xfrm>
              <a:off x="3612960" y="3355200"/>
              <a:ext cx="529560" cy="327960"/>
              <a:chOff x="3612960" y="3355200"/>
              <a:chExt cx="529560" cy="327960"/>
            </a:xfrm>
          </p:grpSpPr>
          <p:grpSp>
            <p:nvGrpSpPr>
              <p:cNvPr id="185" name=""/>
              <p:cNvGrpSpPr/>
              <p:nvPr/>
            </p:nvGrpSpPr>
            <p:grpSpPr>
              <a:xfrm>
                <a:off x="4018320" y="3355200"/>
                <a:ext cx="56160" cy="327960"/>
                <a:chOff x="4018320" y="3355200"/>
                <a:chExt cx="56160" cy="327960"/>
              </a:xfrm>
            </p:grpSpPr>
            <p:sp>
              <p:nvSpPr>
                <p:cNvPr id="186" name=""/>
                <p:cNvSpPr/>
                <p:nvPr/>
              </p:nvSpPr>
              <p:spPr>
                <a:xfrm flipH="1" flipV="1">
                  <a:off x="4018320" y="3448800"/>
                  <a:ext cx="55800" cy="1404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4074480" y="3589560"/>
                  <a:ext cx="0" cy="93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 flipV="1">
                  <a:off x="4074480" y="3355200"/>
                  <a:ext cx="0" cy="93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9" name=""/>
              <p:cNvSpPr/>
              <p:nvPr/>
            </p:nvSpPr>
            <p:spPr>
              <a:xfrm>
                <a:off x="3612960" y="3396240"/>
                <a:ext cx="5295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000" spc="-1" strike="noStrike">
                    <a:solidFill>
                      <a:srgbClr val="000000"/>
                    </a:solidFill>
                    <a:latin typeface="Times New Roman"/>
                  </a:rPr>
                  <a:t>Sw R1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0" name=""/>
            <p:cNvGrpSpPr/>
            <p:nvPr/>
          </p:nvGrpSpPr>
          <p:grpSpPr>
            <a:xfrm>
              <a:off x="4288320" y="3355200"/>
              <a:ext cx="529560" cy="327960"/>
              <a:chOff x="4288320" y="3355200"/>
              <a:chExt cx="529560" cy="327960"/>
            </a:xfrm>
          </p:grpSpPr>
          <p:grpSp>
            <p:nvGrpSpPr>
              <p:cNvPr id="191" name=""/>
              <p:cNvGrpSpPr/>
              <p:nvPr/>
            </p:nvGrpSpPr>
            <p:grpSpPr>
              <a:xfrm>
                <a:off x="4693680" y="3355200"/>
                <a:ext cx="56160" cy="327960"/>
                <a:chOff x="4693680" y="3355200"/>
                <a:chExt cx="56160" cy="327960"/>
              </a:xfrm>
            </p:grpSpPr>
            <p:sp>
              <p:nvSpPr>
                <p:cNvPr id="192" name=""/>
                <p:cNvSpPr/>
                <p:nvPr/>
              </p:nvSpPr>
              <p:spPr>
                <a:xfrm flipH="1" flipV="1">
                  <a:off x="4693680" y="3448800"/>
                  <a:ext cx="55800" cy="1404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4749840" y="3589560"/>
                  <a:ext cx="0" cy="93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 flipV="1">
                  <a:off x="4749840" y="3355200"/>
                  <a:ext cx="0" cy="93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5" name=""/>
              <p:cNvSpPr/>
              <p:nvPr/>
            </p:nvSpPr>
            <p:spPr>
              <a:xfrm>
                <a:off x="4288320" y="3396240"/>
                <a:ext cx="5295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000" spc="-1" strike="noStrike">
                    <a:solidFill>
                      <a:srgbClr val="000000"/>
                    </a:solidFill>
                    <a:latin typeface="Times New Roman"/>
                  </a:rPr>
                  <a:t>Sw R2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6" name=""/>
            <p:cNvGrpSpPr/>
            <p:nvPr/>
          </p:nvGrpSpPr>
          <p:grpSpPr>
            <a:xfrm>
              <a:off x="4964400" y="3355200"/>
              <a:ext cx="529560" cy="327960"/>
              <a:chOff x="4964400" y="3355200"/>
              <a:chExt cx="529560" cy="327960"/>
            </a:xfrm>
          </p:grpSpPr>
          <p:grpSp>
            <p:nvGrpSpPr>
              <p:cNvPr id="197" name=""/>
              <p:cNvGrpSpPr/>
              <p:nvPr/>
            </p:nvGrpSpPr>
            <p:grpSpPr>
              <a:xfrm>
                <a:off x="5368680" y="3355200"/>
                <a:ext cx="56160" cy="327960"/>
                <a:chOff x="5368680" y="3355200"/>
                <a:chExt cx="56160" cy="327960"/>
              </a:xfrm>
            </p:grpSpPr>
            <p:sp>
              <p:nvSpPr>
                <p:cNvPr id="198" name=""/>
                <p:cNvSpPr/>
                <p:nvPr/>
              </p:nvSpPr>
              <p:spPr>
                <a:xfrm flipH="1" flipV="1">
                  <a:off x="5368680" y="3448800"/>
                  <a:ext cx="55800" cy="1404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5424840" y="3589560"/>
                  <a:ext cx="0" cy="93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5424840" y="3355200"/>
                  <a:ext cx="0" cy="93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1" name=""/>
              <p:cNvSpPr/>
              <p:nvPr/>
            </p:nvSpPr>
            <p:spPr>
              <a:xfrm>
                <a:off x="4964400" y="3396240"/>
                <a:ext cx="5295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000" spc="-1" strike="noStrike">
                    <a:solidFill>
                      <a:srgbClr val="000000"/>
                    </a:solidFill>
                    <a:latin typeface="Times New Roman"/>
                  </a:rPr>
                  <a:t>Sw R3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2" name=""/>
            <p:cNvGrpSpPr/>
            <p:nvPr/>
          </p:nvGrpSpPr>
          <p:grpSpPr>
            <a:xfrm>
              <a:off x="4964400" y="4994640"/>
              <a:ext cx="529560" cy="327600"/>
              <a:chOff x="4964400" y="4994640"/>
              <a:chExt cx="529560" cy="327600"/>
            </a:xfrm>
          </p:grpSpPr>
          <p:grpSp>
            <p:nvGrpSpPr>
              <p:cNvPr id="203" name=""/>
              <p:cNvGrpSpPr/>
              <p:nvPr/>
            </p:nvGrpSpPr>
            <p:grpSpPr>
              <a:xfrm>
                <a:off x="5368680" y="4994640"/>
                <a:ext cx="56160" cy="327600"/>
                <a:chOff x="5368680" y="4994640"/>
                <a:chExt cx="56160" cy="327600"/>
              </a:xfrm>
            </p:grpSpPr>
            <p:sp>
              <p:nvSpPr>
                <p:cNvPr id="204" name=""/>
                <p:cNvSpPr/>
                <p:nvPr/>
              </p:nvSpPr>
              <p:spPr>
                <a:xfrm flipH="1" flipV="1">
                  <a:off x="5368680" y="5088240"/>
                  <a:ext cx="55800" cy="1404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5424840" y="5228640"/>
                  <a:ext cx="0" cy="93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5424840" y="4994640"/>
                  <a:ext cx="0" cy="93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7" name=""/>
              <p:cNvSpPr/>
              <p:nvPr/>
            </p:nvSpPr>
            <p:spPr>
              <a:xfrm>
                <a:off x="4964400" y="5036400"/>
                <a:ext cx="5295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000" spc="-1" strike="noStrike">
                    <a:solidFill>
                      <a:srgbClr val="000000"/>
                    </a:solidFill>
                    <a:latin typeface="Times New Roman"/>
                  </a:rPr>
                  <a:t>Sw C3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8" name=""/>
            <p:cNvGrpSpPr/>
            <p:nvPr/>
          </p:nvGrpSpPr>
          <p:grpSpPr>
            <a:xfrm>
              <a:off x="3612960" y="4994640"/>
              <a:ext cx="529560" cy="327600"/>
              <a:chOff x="3612960" y="4994640"/>
              <a:chExt cx="529560" cy="32760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4018320" y="4994640"/>
                <a:ext cx="56160" cy="327600"/>
                <a:chOff x="4018320" y="4994640"/>
                <a:chExt cx="56160" cy="327600"/>
              </a:xfrm>
            </p:grpSpPr>
            <p:sp>
              <p:nvSpPr>
                <p:cNvPr id="210" name=""/>
                <p:cNvSpPr/>
                <p:nvPr/>
              </p:nvSpPr>
              <p:spPr>
                <a:xfrm flipH="1" flipV="1">
                  <a:off x="4018320" y="5088240"/>
                  <a:ext cx="55800" cy="1404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4074480" y="5228640"/>
                  <a:ext cx="0" cy="93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flipV="1">
                  <a:off x="4074480" y="4994640"/>
                  <a:ext cx="0" cy="93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3" name=""/>
              <p:cNvSpPr/>
              <p:nvPr/>
            </p:nvSpPr>
            <p:spPr>
              <a:xfrm>
                <a:off x="3612960" y="5036400"/>
                <a:ext cx="5295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000" spc="-1" strike="noStrike">
                    <a:solidFill>
                      <a:srgbClr val="000000"/>
                    </a:solidFill>
                    <a:latin typeface="Times New Roman"/>
                  </a:rPr>
                  <a:t>Sw C1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4" name=""/>
            <p:cNvGrpSpPr/>
            <p:nvPr/>
          </p:nvGrpSpPr>
          <p:grpSpPr>
            <a:xfrm>
              <a:off x="4288320" y="4994640"/>
              <a:ext cx="529560" cy="327600"/>
              <a:chOff x="4288320" y="4994640"/>
              <a:chExt cx="529560" cy="3276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693680" y="4994640"/>
                <a:ext cx="56160" cy="327600"/>
                <a:chOff x="4693680" y="4994640"/>
                <a:chExt cx="56160" cy="327600"/>
              </a:xfrm>
            </p:grpSpPr>
            <p:sp>
              <p:nvSpPr>
                <p:cNvPr id="216" name=""/>
                <p:cNvSpPr/>
                <p:nvPr/>
              </p:nvSpPr>
              <p:spPr>
                <a:xfrm flipH="1" flipV="1">
                  <a:off x="4693680" y="5088240"/>
                  <a:ext cx="55800" cy="1404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4749840" y="5228640"/>
                  <a:ext cx="0" cy="93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V="1">
                  <a:off x="4749840" y="4994640"/>
                  <a:ext cx="0" cy="93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9" name=""/>
              <p:cNvSpPr/>
              <p:nvPr/>
            </p:nvSpPr>
            <p:spPr>
              <a:xfrm>
                <a:off x="4288320" y="5036400"/>
                <a:ext cx="5295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000" spc="-1" strike="noStrike">
                    <a:solidFill>
                      <a:srgbClr val="000000"/>
                    </a:solidFill>
                    <a:latin typeface="Times New Roman"/>
                  </a:rPr>
                  <a:t>Sw C2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0" name=""/>
            <p:cNvGrpSpPr/>
            <p:nvPr/>
          </p:nvGrpSpPr>
          <p:grpSpPr>
            <a:xfrm>
              <a:off x="3062520" y="4526280"/>
              <a:ext cx="499680" cy="280440"/>
              <a:chOff x="3062520" y="4526280"/>
              <a:chExt cx="499680" cy="280440"/>
            </a:xfrm>
          </p:grpSpPr>
          <p:grpSp>
            <p:nvGrpSpPr>
              <p:cNvPr id="221" name=""/>
              <p:cNvGrpSpPr/>
              <p:nvPr/>
            </p:nvGrpSpPr>
            <p:grpSpPr>
              <a:xfrm>
                <a:off x="3062520" y="4526280"/>
                <a:ext cx="225000" cy="280440"/>
                <a:chOff x="3062520" y="4526280"/>
                <a:chExt cx="225000" cy="280440"/>
              </a:xfrm>
            </p:grpSpPr>
            <p:sp>
              <p:nvSpPr>
                <p:cNvPr id="222" name=""/>
                <p:cNvSpPr/>
                <p:nvPr/>
              </p:nvSpPr>
              <p:spPr>
                <a:xfrm>
                  <a:off x="3062520" y="4713480"/>
                  <a:ext cx="225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3062520" y="4619520"/>
                  <a:ext cx="225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3174840" y="4713480"/>
                  <a:ext cx="0" cy="932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440" bIns="46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3174840" y="4526280"/>
                  <a:ext cx="0" cy="932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440" bIns="46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6" name=""/>
              <p:cNvSpPr/>
              <p:nvPr/>
            </p:nvSpPr>
            <p:spPr>
              <a:xfrm>
                <a:off x="3183480" y="4543920"/>
                <a:ext cx="3787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10p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7" name=""/>
            <p:cNvGrpSpPr/>
            <p:nvPr/>
          </p:nvGrpSpPr>
          <p:grpSpPr>
            <a:xfrm>
              <a:off x="3962880" y="4526280"/>
              <a:ext cx="499680" cy="280440"/>
              <a:chOff x="3962880" y="4526280"/>
              <a:chExt cx="499680" cy="280440"/>
            </a:xfrm>
          </p:grpSpPr>
          <p:grpSp>
            <p:nvGrpSpPr>
              <p:cNvPr id="228" name=""/>
              <p:cNvGrpSpPr/>
              <p:nvPr/>
            </p:nvGrpSpPr>
            <p:grpSpPr>
              <a:xfrm>
                <a:off x="3962880" y="4526280"/>
                <a:ext cx="225000" cy="280440"/>
                <a:chOff x="3962880" y="4526280"/>
                <a:chExt cx="225000" cy="28044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3962880" y="4713480"/>
                  <a:ext cx="225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3962880" y="4619520"/>
                  <a:ext cx="225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4075200" y="4713480"/>
                  <a:ext cx="0" cy="932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440" bIns="46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4075200" y="4526280"/>
                  <a:ext cx="0" cy="932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440" bIns="46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3" name=""/>
              <p:cNvSpPr/>
              <p:nvPr/>
            </p:nvSpPr>
            <p:spPr>
              <a:xfrm>
                <a:off x="4083840" y="4543920"/>
                <a:ext cx="3787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20p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4637880" y="4526280"/>
              <a:ext cx="443880" cy="280440"/>
              <a:chOff x="4637880" y="4526280"/>
              <a:chExt cx="443880" cy="280440"/>
            </a:xfrm>
          </p:grpSpPr>
          <p:grpSp>
            <p:nvGrpSpPr>
              <p:cNvPr id="235" name=""/>
              <p:cNvGrpSpPr/>
              <p:nvPr/>
            </p:nvGrpSpPr>
            <p:grpSpPr>
              <a:xfrm>
                <a:off x="4637880" y="4526280"/>
                <a:ext cx="225000" cy="280440"/>
                <a:chOff x="4637880" y="4526280"/>
                <a:chExt cx="225000" cy="28044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4637880" y="4713480"/>
                  <a:ext cx="225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4637880" y="4619520"/>
                  <a:ext cx="225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4750200" y="4713480"/>
                  <a:ext cx="0" cy="932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440" bIns="46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4750200" y="4526280"/>
                  <a:ext cx="0" cy="932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440" bIns="46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0" name=""/>
              <p:cNvSpPr/>
              <p:nvPr/>
            </p:nvSpPr>
            <p:spPr>
              <a:xfrm>
                <a:off x="4766760" y="4543920"/>
                <a:ext cx="3150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5p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1" name=""/>
            <p:cNvGrpSpPr/>
            <p:nvPr/>
          </p:nvGrpSpPr>
          <p:grpSpPr>
            <a:xfrm>
              <a:off x="5313240" y="4526280"/>
              <a:ext cx="499320" cy="280440"/>
              <a:chOff x="5313240" y="4526280"/>
              <a:chExt cx="499320" cy="280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5313240" y="4526280"/>
                <a:ext cx="225000" cy="280440"/>
                <a:chOff x="5313240" y="4526280"/>
                <a:chExt cx="225000" cy="280440"/>
              </a:xfrm>
            </p:grpSpPr>
            <p:sp>
              <p:nvSpPr>
                <p:cNvPr id="243" name=""/>
                <p:cNvSpPr/>
                <p:nvPr/>
              </p:nvSpPr>
              <p:spPr>
                <a:xfrm>
                  <a:off x="5313240" y="4713480"/>
                  <a:ext cx="225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5313240" y="4619520"/>
                  <a:ext cx="225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5425560" y="4713480"/>
                  <a:ext cx="0" cy="932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440" bIns="46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5425560" y="4526280"/>
                  <a:ext cx="0" cy="932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440" bIns="46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7" name=""/>
              <p:cNvSpPr/>
              <p:nvPr/>
            </p:nvSpPr>
            <p:spPr>
              <a:xfrm>
                <a:off x="5433840" y="4543920"/>
                <a:ext cx="3787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10p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8" name=""/>
            <p:cNvSpPr/>
            <p:nvPr/>
          </p:nvSpPr>
          <p:spPr>
            <a:xfrm>
              <a:off x="6036840" y="4210920"/>
              <a:ext cx="744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Slow ou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041880" y="5738040"/>
              <a:ext cx="709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Times New Roman"/>
                </a:rPr>
                <a:t>Fast ou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0" name=""/>
            <p:cNvGrpSpPr/>
            <p:nvPr/>
          </p:nvGrpSpPr>
          <p:grpSpPr>
            <a:xfrm>
              <a:off x="4523400" y="2970720"/>
              <a:ext cx="455040" cy="290880"/>
              <a:chOff x="4523400" y="2970720"/>
              <a:chExt cx="455040" cy="290880"/>
            </a:xfrm>
          </p:grpSpPr>
          <p:grpSp>
            <p:nvGrpSpPr>
              <p:cNvPr id="251" name=""/>
              <p:cNvGrpSpPr/>
              <p:nvPr/>
            </p:nvGrpSpPr>
            <p:grpSpPr>
              <a:xfrm>
                <a:off x="4637520" y="3168000"/>
                <a:ext cx="225000" cy="93600"/>
                <a:chOff x="4637520" y="3168000"/>
                <a:chExt cx="225000" cy="93600"/>
              </a:xfrm>
            </p:grpSpPr>
            <p:sp>
              <p:nvSpPr>
                <p:cNvPr id="252" name=""/>
                <p:cNvSpPr/>
                <p:nvPr/>
              </p:nvSpPr>
              <p:spPr>
                <a:xfrm>
                  <a:off x="4750560" y="3168000"/>
                  <a:ext cx="0" cy="93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 flipH="1">
                  <a:off x="4637520" y="3168000"/>
                  <a:ext cx="225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54" name=""/>
              <p:cNvSpPr/>
              <p:nvPr/>
            </p:nvSpPr>
            <p:spPr>
              <a:xfrm>
                <a:off x="4523400" y="2970720"/>
                <a:ext cx="4550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VDD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5" name=""/>
            <p:cNvGrpSpPr/>
            <p:nvPr/>
          </p:nvGrpSpPr>
          <p:grpSpPr>
            <a:xfrm>
              <a:off x="5369400" y="3776760"/>
              <a:ext cx="444600" cy="374400"/>
              <a:chOff x="5369400" y="3776760"/>
              <a:chExt cx="444600" cy="374400"/>
            </a:xfrm>
          </p:grpSpPr>
          <p:grpSp>
            <p:nvGrpSpPr>
              <p:cNvPr id="256" name=""/>
              <p:cNvGrpSpPr/>
              <p:nvPr/>
            </p:nvGrpSpPr>
            <p:grpSpPr>
              <a:xfrm>
                <a:off x="5369400" y="3776760"/>
                <a:ext cx="112320" cy="374400"/>
                <a:chOff x="5369400" y="3776760"/>
                <a:chExt cx="112320" cy="374400"/>
              </a:xfrm>
            </p:grpSpPr>
            <p:grpSp>
              <p:nvGrpSpPr>
                <p:cNvPr id="257" name=""/>
                <p:cNvGrpSpPr/>
                <p:nvPr/>
              </p:nvGrpSpPr>
              <p:grpSpPr>
                <a:xfrm>
                  <a:off x="5369400" y="3821400"/>
                  <a:ext cx="112320" cy="282240"/>
                  <a:chOff x="5369400" y="3821400"/>
                  <a:chExt cx="112320" cy="282240"/>
                </a:xfrm>
              </p:grpSpPr>
              <p:sp>
                <p:nvSpPr>
                  <p:cNvPr id="258" name=""/>
                  <p:cNvSpPr/>
                  <p:nvPr/>
                </p:nvSpPr>
                <p:spPr>
                  <a:xfrm flipV="1">
                    <a:off x="5369400" y="3821400"/>
                    <a:ext cx="58320" cy="244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9" name=""/>
                  <p:cNvSpPr/>
                  <p:nvPr/>
                </p:nvSpPr>
                <p:spPr>
                  <a:xfrm flipH="1" flipV="1">
                    <a:off x="5369400" y="4033080"/>
                    <a:ext cx="112320" cy="468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0" name=""/>
                  <p:cNvSpPr/>
                  <p:nvPr/>
                </p:nvSpPr>
                <p:spPr>
                  <a:xfrm flipV="1">
                    <a:off x="5369400" y="3985920"/>
                    <a:ext cx="112320" cy="464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" bIns="-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1" name=""/>
                  <p:cNvSpPr/>
                  <p:nvPr/>
                </p:nvSpPr>
                <p:spPr>
                  <a:xfrm flipH="1" flipV="1">
                    <a:off x="5369400" y="3939480"/>
                    <a:ext cx="112320" cy="468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 flipV="1">
                    <a:off x="5369400" y="3892320"/>
                    <a:ext cx="112320" cy="468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3" name=""/>
                  <p:cNvSpPr/>
                  <p:nvPr/>
                </p:nvSpPr>
                <p:spPr>
                  <a:xfrm flipH="1" flipV="1">
                    <a:off x="5369400" y="3845520"/>
                    <a:ext cx="112320" cy="464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" bIns="-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4" name=""/>
                  <p:cNvSpPr/>
                  <p:nvPr/>
                </p:nvSpPr>
                <p:spPr>
                  <a:xfrm flipV="1">
                    <a:off x="5423040" y="4079520"/>
                    <a:ext cx="58320" cy="241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680" bIns="-22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5" name=""/>
                <p:cNvSpPr/>
                <p:nvPr/>
              </p:nvSpPr>
              <p:spPr>
                <a:xfrm>
                  <a:off x="5425560" y="4104720"/>
                  <a:ext cx="0" cy="46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" bIns="-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5425560" y="3776760"/>
                  <a:ext cx="0" cy="46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7" name=""/>
              <p:cNvSpPr/>
              <p:nvPr/>
            </p:nvSpPr>
            <p:spPr>
              <a:xfrm>
                <a:off x="5406120" y="3823200"/>
                <a:ext cx="407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20K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8" name=""/>
            <p:cNvGrpSpPr/>
            <p:nvPr/>
          </p:nvGrpSpPr>
          <p:grpSpPr>
            <a:xfrm>
              <a:off x="4694400" y="3776760"/>
              <a:ext cx="444600" cy="374400"/>
              <a:chOff x="4694400" y="3776760"/>
              <a:chExt cx="444600" cy="374400"/>
            </a:xfrm>
          </p:grpSpPr>
          <p:grpSp>
            <p:nvGrpSpPr>
              <p:cNvPr id="269" name=""/>
              <p:cNvGrpSpPr/>
              <p:nvPr/>
            </p:nvGrpSpPr>
            <p:grpSpPr>
              <a:xfrm>
                <a:off x="4694400" y="3776760"/>
                <a:ext cx="112320" cy="374400"/>
                <a:chOff x="4694400" y="3776760"/>
                <a:chExt cx="112320" cy="374400"/>
              </a:xfrm>
            </p:grpSpPr>
            <p:grpSp>
              <p:nvGrpSpPr>
                <p:cNvPr id="270" name=""/>
                <p:cNvGrpSpPr/>
                <p:nvPr/>
              </p:nvGrpSpPr>
              <p:grpSpPr>
                <a:xfrm>
                  <a:off x="4694400" y="3821400"/>
                  <a:ext cx="112320" cy="282240"/>
                  <a:chOff x="4694400" y="3821400"/>
                  <a:chExt cx="112320" cy="282240"/>
                </a:xfrm>
              </p:grpSpPr>
              <p:sp>
                <p:nvSpPr>
                  <p:cNvPr id="271" name=""/>
                  <p:cNvSpPr/>
                  <p:nvPr/>
                </p:nvSpPr>
                <p:spPr>
                  <a:xfrm flipV="1">
                    <a:off x="4694400" y="3821400"/>
                    <a:ext cx="58320" cy="244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 flipV="1">
                    <a:off x="4694400" y="4033080"/>
                    <a:ext cx="112320" cy="468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V="1">
                    <a:off x="4694400" y="3985920"/>
                    <a:ext cx="112320" cy="464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" bIns="-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 flipV="1">
                    <a:off x="4694400" y="3939480"/>
                    <a:ext cx="112320" cy="468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V="1">
                    <a:off x="4694400" y="3892320"/>
                    <a:ext cx="112320" cy="468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6" name=""/>
                  <p:cNvSpPr/>
                  <p:nvPr/>
                </p:nvSpPr>
                <p:spPr>
                  <a:xfrm flipH="1" flipV="1">
                    <a:off x="4694400" y="3845520"/>
                    <a:ext cx="112320" cy="464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" bIns="-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7" name=""/>
                  <p:cNvSpPr/>
                  <p:nvPr/>
                </p:nvSpPr>
                <p:spPr>
                  <a:xfrm flipV="1">
                    <a:off x="4748040" y="4079520"/>
                    <a:ext cx="58320" cy="241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680" bIns="-22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78" name=""/>
                <p:cNvSpPr/>
                <p:nvPr/>
              </p:nvSpPr>
              <p:spPr>
                <a:xfrm>
                  <a:off x="4750560" y="4104720"/>
                  <a:ext cx="0" cy="46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" bIns="-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4750560" y="3776760"/>
                  <a:ext cx="0" cy="46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0" name=""/>
              <p:cNvSpPr/>
              <p:nvPr/>
            </p:nvSpPr>
            <p:spPr>
              <a:xfrm>
                <a:off x="4731120" y="3823200"/>
                <a:ext cx="407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40K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1" name=""/>
            <p:cNvGrpSpPr/>
            <p:nvPr/>
          </p:nvGrpSpPr>
          <p:grpSpPr>
            <a:xfrm>
              <a:off x="4019400" y="3776760"/>
              <a:ext cx="443880" cy="374400"/>
              <a:chOff x="4019400" y="3776760"/>
              <a:chExt cx="443880" cy="374400"/>
            </a:xfrm>
          </p:grpSpPr>
          <p:grpSp>
            <p:nvGrpSpPr>
              <p:cNvPr id="282" name=""/>
              <p:cNvGrpSpPr/>
              <p:nvPr/>
            </p:nvGrpSpPr>
            <p:grpSpPr>
              <a:xfrm>
                <a:off x="4019400" y="3776760"/>
                <a:ext cx="112320" cy="374400"/>
                <a:chOff x="4019400" y="3776760"/>
                <a:chExt cx="112320" cy="37440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19400" y="3821400"/>
                  <a:ext cx="112320" cy="282240"/>
                  <a:chOff x="4019400" y="3821400"/>
                  <a:chExt cx="112320" cy="28224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 flipV="1">
                    <a:off x="4019400" y="3821400"/>
                    <a:ext cx="58320" cy="244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019400" y="4033080"/>
                    <a:ext cx="112320" cy="468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 flipV="1">
                    <a:off x="4019400" y="3985920"/>
                    <a:ext cx="112320" cy="464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" bIns="-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19400" y="3939480"/>
                    <a:ext cx="112320" cy="468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 flipV="1">
                    <a:off x="4019400" y="3892320"/>
                    <a:ext cx="112320" cy="468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 flipV="1">
                    <a:off x="4019400" y="3845520"/>
                    <a:ext cx="112320" cy="464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" bIns="-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V="1">
                    <a:off x="4073040" y="4079520"/>
                    <a:ext cx="58320" cy="241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680" bIns="-22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4075560" y="4104720"/>
                  <a:ext cx="0" cy="46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" bIns="-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4075560" y="3776760"/>
                  <a:ext cx="0" cy="46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4055400" y="3823200"/>
                <a:ext cx="407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10K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4" name=""/>
            <p:cNvGrpSpPr/>
            <p:nvPr/>
          </p:nvGrpSpPr>
          <p:grpSpPr>
            <a:xfrm>
              <a:off x="3118680" y="3776760"/>
              <a:ext cx="444600" cy="374400"/>
              <a:chOff x="3118680" y="3776760"/>
              <a:chExt cx="444600" cy="374400"/>
            </a:xfrm>
          </p:grpSpPr>
          <p:grpSp>
            <p:nvGrpSpPr>
              <p:cNvPr id="295" name=""/>
              <p:cNvGrpSpPr/>
              <p:nvPr/>
            </p:nvGrpSpPr>
            <p:grpSpPr>
              <a:xfrm>
                <a:off x="3118680" y="3776760"/>
                <a:ext cx="113040" cy="374400"/>
                <a:chOff x="3118680" y="3776760"/>
                <a:chExt cx="113040" cy="374400"/>
              </a:xfrm>
            </p:grpSpPr>
            <p:grpSp>
              <p:nvGrpSpPr>
                <p:cNvPr id="296" name=""/>
                <p:cNvGrpSpPr/>
                <p:nvPr/>
              </p:nvGrpSpPr>
              <p:grpSpPr>
                <a:xfrm>
                  <a:off x="3118680" y="3821400"/>
                  <a:ext cx="113040" cy="282240"/>
                  <a:chOff x="3118680" y="3821400"/>
                  <a:chExt cx="113040" cy="282240"/>
                </a:xfrm>
              </p:grpSpPr>
              <p:sp>
                <p:nvSpPr>
                  <p:cNvPr id="297" name=""/>
                  <p:cNvSpPr/>
                  <p:nvPr/>
                </p:nvSpPr>
                <p:spPr>
                  <a:xfrm flipV="1">
                    <a:off x="3119040" y="3821400"/>
                    <a:ext cx="58680" cy="244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8" name=""/>
                  <p:cNvSpPr/>
                  <p:nvPr/>
                </p:nvSpPr>
                <p:spPr>
                  <a:xfrm flipH="1" flipV="1">
                    <a:off x="3118680" y="4033080"/>
                    <a:ext cx="112680" cy="468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9" name=""/>
                  <p:cNvSpPr/>
                  <p:nvPr/>
                </p:nvSpPr>
                <p:spPr>
                  <a:xfrm flipV="1">
                    <a:off x="3119040" y="3985920"/>
                    <a:ext cx="112680" cy="464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" bIns="-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0" name=""/>
                  <p:cNvSpPr/>
                  <p:nvPr/>
                </p:nvSpPr>
                <p:spPr>
                  <a:xfrm flipH="1" flipV="1">
                    <a:off x="3118680" y="3939480"/>
                    <a:ext cx="112680" cy="468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1" name=""/>
                  <p:cNvSpPr/>
                  <p:nvPr/>
                </p:nvSpPr>
                <p:spPr>
                  <a:xfrm flipV="1">
                    <a:off x="3119040" y="3892320"/>
                    <a:ext cx="112680" cy="468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2" name=""/>
                  <p:cNvSpPr/>
                  <p:nvPr/>
                </p:nvSpPr>
                <p:spPr>
                  <a:xfrm flipH="1" flipV="1">
                    <a:off x="3118680" y="3845520"/>
                    <a:ext cx="112680" cy="464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" bIns="-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3" name=""/>
                  <p:cNvSpPr/>
                  <p:nvPr/>
                </p:nvSpPr>
                <p:spPr>
                  <a:xfrm flipV="1">
                    <a:off x="3172680" y="4079520"/>
                    <a:ext cx="58680" cy="241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680" bIns="-22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04" name=""/>
                <p:cNvSpPr/>
                <p:nvPr/>
              </p:nvSpPr>
              <p:spPr>
                <a:xfrm>
                  <a:off x="3175200" y="4104720"/>
                  <a:ext cx="0" cy="46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" bIns="-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3175200" y="3776760"/>
                  <a:ext cx="0" cy="46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06" name=""/>
              <p:cNvSpPr/>
              <p:nvPr/>
            </p:nvSpPr>
            <p:spPr>
              <a:xfrm>
                <a:off x="3155400" y="3823200"/>
                <a:ext cx="407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20K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7" name=""/>
            <p:cNvSpPr/>
            <p:nvPr/>
          </p:nvSpPr>
          <p:spPr>
            <a:xfrm flipV="1">
              <a:off x="4750560" y="3683160"/>
              <a:ext cx="0" cy="93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 flipV="1">
              <a:off x="5425560" y="3683160"/>
              <a:ext cx="0" cy="93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 flipV="1">
              <a:off x="3175560" y="3683160"/>
              <a:ext cx="0" cy="93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 flipV="1">
              <a:off x="4075200" y="3261600"/>
              <a:ext cx="0" cy="93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V="1">
              <a:off x="4750560" y="3261600"/>
              <a:ext cx="0" cy="93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 flipV="1">
              <a:off x="5425560" y="3261600"/>
              <a:ext cx="0" cy="93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flipV="1">
              <a:off x="4075200" y="4807440"/>
              <a:ext cx="0" cy="18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4" name=""/>
            <p:cNvGrpSpPr/>
            <p:nvPr/>
          </p:nvGrpSpPr>
          <p:grpSpPr>
            <a:xfrm>
              <a:off x="2106360" y="4619880"/>
              <a:ext cx="443520" cy="374400"/>
              <a:chOff x="2106360" y="4619880"/>
              <a:chExt cx="443520" cy="374400"/>
            </a:xfrm>
          </p:grpSpPr>
          <p:grpSp>
            <p:nvGrpSpPr>
              <p:cNvPr id="315" name=""/>
              <p:cNvGrpSpPr/>
              <p:nvPr/>
            </p:nvGrpSpPr>
            <p:grpSpPr>
              <a:xfrm>
                <a:off x="2106360" y="4619880"/>
                <a:ext cx="112320" cy="374400"/>
                <a:chOff x="2106360" y="4619880"/>
                <a:chExt cx="112320" cy="374400"/>
              </a:xfrm>
            </p:grpSpPr>
            <p:grpSp>
              <p:nvGrpSpPr>
                <p:cNvPr id="316" name=""/>
                <p:cNvGrpSpPr/>
                <p:nvPr/>
              </p:nvGrpSpPr>
              <p:grpSpPr>
                <a:xfrm>
                  <a:off x="2106360" y="4664520"/>
                  <a:ext cx="112320" cy="282240"/>
                  <a:chOff x="2106360" y="4664520"/>
                  <a:chExt cx="112320" cy="282240"/>
                </a:xfrm>
              </p:grpSpPr>
              <p:sp>
                <p:nvSpPr>
                  <p:cNvPr id="317" name=""/>
                  <p:cNvSpPr/>
                  <p:nvPr/>
                </p:nvSpPr>
                <p:spPr>
                  <a:xfrm flipV="1">
                    <a:off x="2106360" y="4664520"/>
                    <a:ext cx="58320" cy="244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8" name=""/>
                  <p:cNvSpPr/>
                  <p:nvPr/>
                </p:nvSpPr>
                <p:spPr>
                  <a:xfrm flipH="1" flipV="1">
                    <a:off x="2106360" y="4876200"/>
                    <a:ext cx="112320" cy="468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9" name=""/>
                  <p:cNvSpPr/>
                  <p:nvPr/>
                </p:nvSpPr>
                <p:spPr>
                  <a:xfrm flipV="1">
                    <a:off x="2106360" y="4829040"/>
                    <a:ext cx="112320" cy="464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" bIns="-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0" name=""/>
                  <p:cNvSpPr/>
                  <p:nvPr/>
                </p:nvSpPr>
                <p:spPr>
                  <a:xfrm flipH="1" flipV="1">
                    <a:off x="2106360" y="4782600"/>
                    <a:ext cx="112320" cy="468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1" name=""/>
                  <p:cNvSpPr/>
                  <p:nvPr/>
                </p:nvSpPr>
                <p:spPr>
                  <a:xfrm flipV="1">
                    <a:off x="2106360" y="4735440"/>
                    <a:ext cx="112320" cy="468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2" name=""/>
                  <p:cNvSpPr/>
                  <p:nvPr/>
                </p:nvSpPr>
                <p:spPr>
                  <a:xfrm flipH="1" flipV="1">
                    <a:off x="2106360" y="4688640"/>
                    <a:ext cx="112320" cy="464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" bIns="-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3" name=""/>
                  <p:cNvSpPr/>
                  <p:nvPr/>
                </p:nvSpPr>
                <p:spPr>
                  <a:xfrm flipV="1">
                    <a:off x="2160000" y="4922640"/>
                    <a:ext cx="58320" cy="241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680" bIns="-22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4" name=""/>
                <p:cNvSpPr/>
                <p:nvPr/>
              </p:nvSpPr>
              <p:spPr>
                <a:xfrm>
                  <a:off x="2162520" y="4947840"/>
                  <a:ext cx="0" cy="46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" bIns="-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>
                  <a:off x="2162520" y="4619880"/>
                  <a:ext cx="0" cy="46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6" name=""/>
              <p:cNvSpPr/>
              <p:nvPr/>
            </p:nvSpPr>
            <p:spPr>
              <a:xfrm>
                <a:off x="2142000" y="4666320"/>
                <a:ext cx="407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20K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7" name=""/>
            <p:cNvSpPr/>
            <p:nvPr/>
          </p:nvSpPr>
          <p:spPr>
            <a:xfrm flipH="1">
              <a:off x="4075200" y="3261600"/>
              <a:ext cx="1350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722480" y="3238200"/>
              <a:ext cx="55800" cy="468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V="1">
              <a:off x="1037520" y="4338720"/>
              <a:ext cx="0" cy="2340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flipV="1">
              <a:off x="1037520" y="4994640"/>
              <a:ext cx="0" cy="18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dLT         Opera collaboration mee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31241-0651-4032-84DC-2B17BB32F5D6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9 jul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Variable gain preamp for PMT</a:t>
            </a:r>
            <a:endParaRPr b="1" lang="en-US" sz="2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urrent mirror architect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atioed mirrors on input. Output currents summed and integrated on capacitor (10 pF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ain adjusted by turning on/off scaled mirrors (3 bits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arger input impedance (500 ), similar decay time constant (200 n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me following stag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2309760" y="1733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557280" y="3047400"/>
            <a:ext cx="5842440" cy="3644280"/>
            <a:chOff x="557280" y="3047400"/>
            <a:chExt cx="5842440" cy="3644280"/>
          </a:xfrm>
        </p:grpSpPr>
        <p:grpSp>
          <p:nvGrpSpPr>
            <p:cNvPr id="336" name=""/>
            <p:cNvGrpSpPr/>
            <p:nvPr/>
          </p:nvGrpSpPr>
          <p:grpSpPr>
            <a:xfrm>
              <a:off x="557280" y="4748760"/>
              <a:ext cx="574200" cy="447120"/>
              <a:chOff x="557280" y="4748760"/>
              <a:chExt cx="574200" cy="447120"/>
            </a:xfrm>
          </p:grpSpPr>
          <p:grpSp>
            <p:nvGrpSpPr>
              <p:cNvPr id="337" name=""/>
              <p:cNvGrpSpPr/>
              <p:nvPr/>
            </p:nvGrpSpPr>
            <p:grpSpPr>
              <a:xfrm>
                <a:off x="968760" y="4748760"/>
                <a:ext cx="162720" cy="447120"/>
                <a:chOff x="968760" y="4748760"/>
                <a:chExt cx="162720" cy="447120"/>
              </a:xfrm>
            </p:grpSpPr>
            <p:grpSp>
              <p:nvGrpSpPr>
                <p:cNvPr id="338" name=""/>
                <p:cNvGrpSpPr/>
                <p:nvPr/>
              </p:nvGrpSpPr>
              <p:grpSpPr>
                <a:xfrm>
                  <a:off x="968760" y="4848120"/>
                  <a:ext cx="162720" cy="248400"/>
                  <a:chOff x="968760" y="4848120"/>
                  <a:chExt cx="162720" cy="248400"/>
                </a:xfrm>
              </p:grpSpPr>
              <p:sp>
                <p:nvSpPr>
                  <p:cNvPr id="339" name=""/>
                  <p:cNvSpPr/>
                  <p:nvPr/>
                </p:nvSpPr>
                <p:spPr>
                  <a:xfrm>
                    <a:off x="968760" y="4947480"/>
                    <a:ext cx="162720" cy="1490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0" name=""/>
                  <p:cNvSpPr/>
                  <p:nvPr/>
                </p:nvSpPr>
                <p:spPr>
                  <a:xfrm>
                    <a:off x="968760" y="4848120"/>
                    <a:ext cx="162720" cy="1490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1" name=""/>
                <p:cNvSpPr/>
                <p:nvPr/>
              </p:nvSpPr>
              <p:spPr>
                <a:xfrm flipV="1">
                  <a:off x="1050120" y="5096520"/>
                  <a:ext cx="0" cy="9936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 flipV="1">
                  <a:off x="1050120" y="4748760"/>
                  <a:ext cx="0" cy="9936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3" name=""/>
              <p:cNvSpPr/>
              <p:nvPr/>
            </p:nvSpPr>
            <p:spPr>
              <a:xfrm flipV="1">
                <a:off x="887400" y="4773600"/>
                <a:ext cx="0" cy="39744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557280" y="4832280"/>
                <a:ext cx="4064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00"/>
                    </a:solidFill>
                    <a:latin typeface="Times New Roman"/>
                  </a:rPr>
                  <a:t>I i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5" name=""/>
            <p:cNvSpPr/>
            <p:nvPr/>
          </p:nvSpPr>
          <p:spPr>
            <a:xfrm>
              <a:off x="2108160" y="3754440"/>
              <a:ext cx="271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H="1">
              <a:off x="1836720" y="4002840"/>
              <a:ext cx="271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108160" y="3754440"/>
              <a:ext cx="0" cy="248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8" name=""/>
            <p:cNvGrpSpPr/>
            <p:nvPr/>
          </p:nvGrpSpPr>
          <p:grpSpPr>
            <a:xfrm>
              <a:off x="1836000" y="3655080"/>
              <a:ext cx="271800" cy="198720"/>
              <a:chOff x="1836000" y="3655080"/>
              <a:chExt cx="271800" cy="198720"/>
            </a:xfrm>
          </p:grpSpPr>
          <p:sp>
            <p:nvSpPr>
              <p:cNvPr id="349" name=""/>
              <p:cNvSpPr/>
              <p:nvPr/>
            </p:nvSpPr>
            <p:spPr>
              <a:xfrm>
                <a:off x="1945080" y="3655080"/>
                <a:ext cx="0" cy="198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 flipV="1">
                <a:off x="1999440" y="3754440"/>
                <a:ext cx="108360" cy="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1999440" y="3655080"/>
                <a:ext cx="0" cy="198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1836000" y="3853800"/>
                <a:ext cx="108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1836000" y="3655080"/>
                <a:ext cx="108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4" name=""/>
            <p:cNvGrpSpPr/>
            <p:nvPr/>
          </p:nvGrpSpPr>
          <p:grpSpPr>
            <a:xfrm>
              <a:off x="2379600" y="3655080"/>
              <a:ext cx="271440" cy="198720"/>
              <a:chOff x="2379600" y="3655080"/>
              <a:chExt cx="271440" cy="198720"/>
            </a:xfrm>
          </p:grpSpPr>
          <p:sp>
            <p:nvSpPr>
              <p:cNvPr id="355" name=""/>
              <p:cNvSpPr/>
              <p:nvPr/>
            </p:nvSpPr>
            <p:spPr>
              <a:xfrm flipH="1">
                <a:off x="2542320" y="3853800"/>
                <a:ext cx="108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 flipH="1">
                <a:off x="2542320" y="3655080"/>
                <a:ext cx="108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 flipV="1">
                <a:off x="2488320" y="3655080"/>
                <a:ext cx="0" cy="198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 flipV="1">
                <a:off x="2542320" y="3655080"/>
                <a:ext cx="0" cy="198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 flipH="1">
                <a:off x="2379600" y="3753360"/>
                <a:ext cx="108720" cy="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0" name=""/>
            <p:cNvSpPr/>
            <p:nvPr/>
          </p:nvSpPr>
          <p:spPr>
            <a:xfrm flipH="1">
              <a:off x="2651040" y="4997520"/>
              <a:ext cx="2823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081160" y="3729600"/>
              <a:ext cx="54360" cy="49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836720" y="3853800"/>
              <a:ext cx="0" cy="29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809720" y="3978360"/>
              <a:ext cx="54000" cy="49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4" name=""/>
            <p:cNvGrpSpPr/>
            <p:nvPr/>
          </p:nvGrpSpPr>
          <p:grpSpPr>
            <a:xfrm>
              <a:off x="4547160" y="5494320"/>
              <a:ext cx="273600" cy="199080"/>
              <a:chOff x="4547160" y="5494320"/>
              <a:chExt cx="273600" cy="199080"/>
            </a:xfrm>
          </p:grpSpPr>
          <p:sp>
            <p:nvSpPr>
              <p:cNvPr id="365" name=""/>
              <p:cNvSpPr/>
              <p:nvPr/>
            </p:nvSpPr>
            <p:spPr>
              <a:xfrm flipH="1">
                <a:off x="4658040" y="5592960"/>
                <a:ext cx="162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4658040" y="5494680"/>
                <a:ext cx="0" cy="198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 flipH="1">
                <a:off x="4547160" y="5643720"/>
                <a:ext cx="110520" cy="49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 flipH="1" flipV="1">
                <a:off x="4549320" y="5494320"/>
                <a:ext cx="106200" cy="49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9" name=""/>
            <p:cNvSpPr/>
            <p:nvPr/>
          </p:nvSpPr>
          <p:spPr>
            <a:xfrm>
              <a:off x="2108160" y="4251600"/>
              <a:ext cx="271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 flipH="1">
              <a:off x="1728000" y="4500360"/>
              <a:ext cx="380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2108160" y="4251600"/>
              <a:ext cx="0" cy="248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2" name=""/>
            <p:cNvGrpSpPr/>
            <p:nvPr/>
          </p:nvGrpSpPr>
          <p:grpSpPr>
            <a:xfrm>
              <a:off x="1836000" y="4151880"/>
              <a:ext cx="271800" cy="198720"/>
              <a:chOff x="1836000" y="4151880"/>
              <a:chExt cx="271800" cy="198720"/>
            </a:xfrm>
          </p:grpSpPr>
          <p:sp>
            <p:nvSpPr>
              <p:cNvPr id="373" name=""/>
              <p:cNvSpPr/>
              <p:nvPr/>
            </p:nvSpPr>
            <p:spPr>
              <a:xfrm>
                <a:off x="1945080" y="4151880"/>
                <a:ext cx="0" cy="198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V="1">
                <a:off x="1999440" y="4251240"/>
                <a:ext cx="108360" cy="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1999440" y="4151880"/>
                <a:ext cx="0" cy="198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1836000" y="4350600"/>
                <a:ext cx="108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1836000" y="4151880"/>
                <a:ext cx="108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8" name=""/>
            <p:cNvGrpSpPr/>
            <p:nvPr/>
          </p:nvGrpSpPr>
          <p:grpSpPr>
            <a:xfrm>
              <a:off x="2379600" y="4151880"/>
              <a:ext cx="271440" cy="198720"/>
              <a:chOff x="2379600" y="4151880"/>
              <a:chExt cx="271440" cy="198720"/>
            </a:xfrm>
          </p:grpSpPr>
          <p:sp>
            <p:nvSpPr>
              <p:cNvPr id="379" name=""/>
              <p:cNvSpPr/>
              <p:nvPr/>
            </p:nvSpPr>
            <p:spPr>
              <a:xfrm flipH="1">
                <a:off x="2542320" y="4350600"/>
                <a:ext cx="108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 flipH="1">
                <a:off x="2542320" y="4151880"/>
                <a:ext cx="108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 flipV="1">
                <a:off x="2488320" y="4151880"/>
                <a:ext cx="0" cy="198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 flipV="1">
                <a:off x="2542320" y="4151880"/>
                <a:ext cx="0" cy="198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 flipH="1">
                <a:off x="2379600" y="4249440"/>
                <a:ext cx="10872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4" name=""/>
            <p:cNvSpPr/>
            <p:nvPr/>
          </p:nvSpPr>
          <p:spPr>
            <a:xfrm>
              <a:off x="2081160" y="4226760"/>
              <a:ext cx="54360" cy="49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651040" y="4350960"/>
              <a:ext cx="0" cy="646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809720" y="4475160"/>
              <a:ext cx="54000" cy="49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 flipH="1">
              <a:off x="5092920" y="5592960"/>
              <a:ext cx="162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5257800" y="5494680"/>
              <a:ext cx="0" cy="198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V="1">
              <a:off x="5256000" y="5494680"/>
              <a:ext cx="110520" cy="4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257800" y="5643720"/>
              <a:ext cx="108720" cy="4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823640" y="5594040"/>
              <a:ext cx="271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 flipH="1">
              <a:off x="4552200" y="5345280"/>
              <a:ext cx="271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524840" y="5320800"/>
              <a:ext cx="54360" cy="49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823640" y="5345280"/>
              <a:ext cx="0" cy="248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836720" y="4350960"/>
              <a:ext cx="0" cy="14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 flipH="1">
              <a:off x="2108160" y="4002840"/>
              <a:ext cx="2715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2081160" y="3978360"/>
              <a:ext cx="54360" cy="49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2651040" y="3853800"/>
              <a:ext cx="0" cy="29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9" name=""/>
            <p:cNvGrpSpPr/>
            <p:nvPr/>
          </p:nvGrpSpPr>
          <p:grpSpPr>
            <a:xfrm>
              <a:off x="3357360" y="4151880"/>
              <a:ext cx="271440" cy="198720"/>
              <a:chOff x="3357360" y="4151880"/>
              <a:chExt cx="271440" cy="198720"/>
            </a:xfrm>
          </p:grpSpPr>
          <p:sp>
            <p:nvSpPr>
              <p:cNvPr id="400" name=""/>
              <p:cNvSpPr/>
              <p:nvPr/>
            </p:nvSpPr>
            <p:spPr>
              <a:xfrm flipH="1">
                <a:off x="3520080" y="4350600"/>
                <a:ext cx="108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 flipH="1">
                <a:off x="3520080" y="4151880"/>
                <a:ext cx="108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 flipV="1">
                <a:off x="3466080" y="4151880"/>
                <a:ext cx="0" cy="198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 flipV="1">
                <a:off x="3520080" y="4151880"/>
                <a:ext cx="0" cy="198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 flipH="1">
                <a:off x="3357360" y="4250160"/>
                <a:ext cx="108720" cy="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5" name=""/>
            <p:cNvGrpSpPr/>
            <p:nvPr/>
          </p:nvGrpSpPr>
          <p:grpSpPr>
            <a:xfrm>
              <a:off x="3357360" y="4649400"/>
              <a:ext cx="271440" cy="198720"/>
              <a:chOff x="3357360" y="4649400"/>
              <a:chExt cx="271440" cy="198720"/>
            </a:xfrm>
          </p:grpSpPr>
          <p:sp>
            <p:nvSpPr>
              <p:cNvPr id="406" name=""/>
              <p:cNvSpPr/>
              <p:nvPr/>
            </p:nvSpPr>
            <p:spPr>
              <a:xfrm flipH="1">
                <a:off x="3520080" y="4848120"/>
                <a:ext cx="108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 flipH="1">
                <a:off x="3520080" y="4649400"/>
                <a:ext cx="108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 flipV="1">
                <a:off x="3466080" y="4649400"/>
                <a:ext cx="0" cy="198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 flipV="1">
                <a:off x="3520080" y="4649400"/>
                <a:ext cx="0" cy="198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 flipH="1">
                <a:off x="3357360" y="4746960"/>
                <a:ext cx="10872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11" name=""/>
            <p:cNvSpPr/>
            <p:nvPr/>
          </p:nvSpPr>
          <p:spPr>
            <a:xfrm>
              <a:off x="3628800" y="4350960"/>
              <a:ext cx="0" cy="29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2" name=""/>
            <p:cNvGrpSpPr/>
            <p:nvPr/>
          </p:nvGrpSpPr>
          <p:grpSpPr>
            <a:xfrm>
              <a:off x="4280400" y="4151880"/>
              <a:ext cx="271440" cy="198720"/>
              <a:chOff x="4280400" y="4151880"/>
              <a:chExt cx="271440" cy="198720"/>
            </a:xfrm>
          </p:grpSpPr>
          <p:sp>
            <p:nvSpPr>
              <p:cNvPr id="413" name=""/>
              <p:cNvSpPr/>
              <p:nvPr/>
            </p:nvSpPr>
            <p:spPr>
              <a:xfrm flipH="1">
                <a:off x="4443120" y="4350600"/>
                <a:ext cx="108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 flipH="1">
                <a:off x="4443120" y="4151880"/>
                <a:ext cx="108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 flipV="1">
                <a:off x="4389120" y="4151880"/>
                <a:ext cx="0" cy="198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 flipV="1">
                <a:off x="4443120" y="4151880"/>
                <a:ext cx="0" cy="198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 flipH="1">
                <a:off x="4280400" y="4250160"/>
                <a:ext cx="108720" cy="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8" name=""/>
            <p:cNvGrpSpPr/>
            <p:nvPr/>
          </p:nvGrpSpPr>
          <p:grpSpPr>
            <a:xfrm>
              <a:off x="4280400" y="4649400"/>
              <a:ext cx="271440" cy="198720"/>
              <a:chOff x="4280400" y="4649400"/>
              <a:chExt cx="271440" cy="198720"/>
            </a:xfrm>
          </p:grpSpPr>
          <p:sp>
            <p:nvSpPr>
              <p:cNvPr id="419" name=""/>
              <p:cNvSpPr/>
              <p:nvPr/>
            </p:nvSpPr>
            <p:spPr>
              <a:xfrm flipH="1">
                <a:off x="4443120" y="4848120"/>
                <a:ext cx="108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 flipH="1">
                <a:off x="4443120" y="4649400"/>
                <a:ext cx="108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 flipV="1">
                <a:off x="4389120" y="4649400"/>
                <a:ext cx="0" cy="198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 flipV="1">
                <a:off x="4443120" y="4649400"/>
                <a:ext cx="0" cy="198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 flipH="1">
                <a:off x="4280400" y="4746960"/>
                <a:ext cx="10872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4" name=""/>
            <p:cNvSpPr/>
            <p:nvPr/>
          </p:nvSpPr>
          <p:spPr>
            <a:xfrm>
              <a:off x="4552200" y="4350960"/>
              <a:ext cx="0" cy="29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5" name=""/>
            <p:cNvGrpSpPr/>
            <p:nvPr/>
          </p:nvGrpSpPr>
          <p:grpSpPr>
            <a:xfrm>
              <a:off x="5203800" y="4151880"/>
              <a:ext cx="271440" cy="198720"/>
              <a:chOff x="5203800" y="4151880"/>
              <a:chExt cx="271440" cy="198720"/>
            </a:xfrm>
          </p:grpSpPr>
          <p:sp>
            <p:nvSpPr>
              <p:cNvPr id="426" name=""/>
              <p:cNvSpPr/>
              <p:nvPr/>
            </p:nvSpPr>
            <p:spPr>
              <a:xfrm flipH="1">
                <a:off x="5366520" y="4350600"/>
                <a:ext cx="108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 flipH="1">
                <a:off x="5366520" y="4151880"/>
                <a:ext cx="108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 flipV="1">
                <a:off x="5312520" y="4151880"/>
                <a:ext cx="0" cy="198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 flipV="1">
                <a:off x="5366520" y="4151880"/>
                <a:ext cx="0" cy="198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 flipH="1">
                <a:off x="5203800" y="4250160"/>
                <a:ext cx="108720" cy="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1" name=""/>
            <p:cNvGrpSpPr/>
            <p:nvPr/>
          </p:nvGrpSpPr>
          <p:grpSpPr>
            <a:xfrm>
              <a:off x="5203800" y="4649400"/>
              <a:ext cx="271440" cy="198720"/>
              <a:chOff x="5203800" y="4649400"/>
              <a:chExt cx="271440" cy="198720"/>
            </a:xfrm>
          </p:grpSpPr>
          <p:sp>
            <p:nvSpPr>
              <p:cNvPr id="432" name=""/>
              <p:cNvSpPr/>
              <p:nvPr/>
            </p:nvSpPr>
            <p:spPr>
              <a:xfrm flipH="1">
                <a:off x="5366520" y="4848120"/>
                <a:ext cx="108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 flipH="1">
                <a:off x="5366520" y="4649400"/>
                <a:ext cx="108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 flipV="1">
                <a:off x="5312520" y="4649400"/>
                <a:ext cx="0" cy="198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 flipV="1">
                <a:off x="5366520" y="4649400"/>
                <a:ext cx="0" cy="198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 flipH="1">
                <a:off x="5203800" y="4746960"/>
                <a:ext cx="10872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7" name=""/>
            <p:cNvSpPr/>
            <p:nvPr/>
          </p:nvSpPr>
          <p:spPr>
            <a:xfrm>
              <a:off x="5475240" y="4350960"/>
              <a:ext cx="0" cy="29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 flipH="1">
              <a:off x="2108160" y="4500360"/>
              <a:ext cx="2715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081160" y="4475160"/>
              <a:ext cx="54360" cy="49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0" name=""/>
            <p:cNvGrpSpPr/>
            <p:nvPr/>
          </p:nvGrpSpPr>
          <p:grpSpPr>
            <a:xfrm>
              <a:off x="2976840" y="4201920"/>
              <a:ext cx="373320" cy="49680"/>
              <a:chOff x="2976840" y="4201920"/>
              <a:chExt cx="373320" cy="49680"/>
            </a:xfrm>
          </p:grpSpPr>
          <p:sp>
            <p:nvSpPr>
              <p:cNvPr id="441" name=""/>
              <p:cNvSpPr/>
              <p:nvPr/>
            </p:nvSpPr>
            <p:spPr>
              <a:xfrm flipV="1">
                <a:off x="3083760" y="4201920"/>
                <a:ext cx="159840" cy="4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 flipH="1">
                <a:off x="2976840" y="4251600"/>
                <a:ext cx="106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3243600" y="4251600"/>
                <a:ext cx="106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4" name=""/>
            <p:cNvGrpSpPr/>
            <p:nvPr/>
          </p:nvGrpSpPr>
          <p:grpSpPr>
            <a:xfrm>
              <a:off x="3900960" y="4201920"/>
              <a:ext cx="372960" cy="49680"/>
              <a:chOff x="3900960" y="4201920"/>
              <a:chExt cx="372960" cy="49680"/>
            </a:xfrm>
          </p:grpSpPr>
          <p:sp>
            <p:nvSpPr>
              <p:cNvPr id="445" name=""/>
              <p:cNvSpPr/>
              <p:nvPr/>
            </p:nvSpPr>
            <p:spPr>
              <a:xfrm flipV="1">
                <a:off x="4007520" y="4201920"/>
                <a:ext cx="159840" cy="4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 flipH="1">
                <a:off x="3900960" y="4251600"/>
                <a:ext cx="106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4167720" y="4251600"/>
                <a:ext cx="106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8" name=""/>
            <p:cNvGrpSpPr/>
            <p:nvPr/>
          </p:nvGrpSpPr>
          <p:grpSpPr>
            <a:xfrm>
              <a:off x="4824000" y="4201920"/>
              <a:ext cx="372960" cy="49680"/>
              <a:chOff x="4824000" y="4201920"/>
              <a:chExt cx="372960" cy="49680"/>
            </a:xfrm>
          </p:grpSpPr>
          <p:sp>
            <p:nvSpPr>
              <p:cNvPr id="449" name=""/>
              <p:cNvSpPr/>
              <p:nvPr/>
            </p:nvSpPr>
            <p:spPr>
              <a:xfrm flipV="1">
                <a:off x="4930560" y="4201920"/>
                <a:ext cx="159840" cy="4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 flipH="1">
                <a:off x="4824000" y="4251600"/>
                <a:ext cx="106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5090760" y="4251600"/>
                <a:ext cx="106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2" name=""/>
            <p:cNvGrpSpPr/>
            <p:nvPr/>
          </p:nvGrpSpPr>
          <p:grpSpPr>
            <a:xfrm>
              <a:off x="2976840" y="4698720"/>
              <a:ext cx="373320" cy="49680"/>
              <a:chOff x="2976840" y="4698720"/>
              <a:chExt cx="373320" cy="49680"/>
            </a:xfrm>
          </p:grpSpPr>
          <p:sp>
            <p:nvSpPr>
              <p:cNvPr id="453" name=""/>
              <p:cNvSpPr/>
              <p:nvPr/>
            </p:nvSpPr>
            <p:spPr>
              <a:xfrm flipV="1">
                <a:off x="3083760" y="4698720"/>
                <a:ext cx="159840" cy="49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 flipH="1">
                <a:off x="2976840" y="4748400"/>
                <a:ext cx="106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3243600" y="4748400"/>
                <a:ext cx="106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6" name=""/>
            <p:cNvGrpSpPr/>
            <p:nvPr/>
          </p:nvGrpSpPr>
          <p:grpSpPr>
            <a:xfrm>
              <a:off x="3900960" y="4698720"/>
              <a:ext cx="372960" cy="49680"/>
              <a:chOff x="3900960" y="4698720"/>
              <a:chExt cx="372960" cy="49680"/>
            </a:xfrm>
          </p:grpSpPr>
          <p:sp>
            <p:nvSpPr>
              <p:cNvPr id="457" name=""/>
              <p:cNvSpPr/>
              <p:nvPr/>
            </p:nvSpPr>
            <p:spPr>
              <a:xfrm flipV="1">
                <a:off x="4007520" y="4698720"/>
                <a:ext cx="159840" cy="49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H="1">
                <a:off x="3900960" y="4748400"/>
                <a:ext cx="106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4167720" y="4748400"/>
                <a:ext cx="106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0" name=""/>
            <p:cNvGrpSpPr/>
            <p:nvPr/>
          </p:nvGrpSpPr>
          <p:grpSpPr>
            <a:xfrm>
              <a:off x="4824000" y="4698720"/>
              <a:ext cx="372960" cy="49680"/>
              <a:chOff x="4824000" y="4698720"/>
              <a:chExt cx="372960" cy="49680"/>
            </a:xfrm>
          </p:grpSpPr>
          <p:sp>
            <p:nvSpPr>
              <p:cNvPr id="461" name=""/>
              <p:cNvSpPr/>
              <p:nvPr/>
            </p:nvSpPr>
            <p:spPr>
              <a:xfrm flipV="1">
                <a:off x="4930560" y="4698720"/>
                <a:ext cx="159840" cy="49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 flipH="1">
                <a:off x="4824000" y="4748400"/>
                <a:ext cx="106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5090760" y="4748400"/>
                <a:ext cx="106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4" name=""/>
            <p:cNvSpPr/>
            <p:nvPr/>
          </p:nvSpPr>
          <p:spPr>
            <a:xfrm>
              <a:off x="2977200" y="4500360"/>
              <a:ext cx="0" cy="248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2950200" y="4475160"/>
              <a:ext cx="54000" cy="49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2977200" y="4002840"/>
              <a:ext cx="0" cy="248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2950200" y="3978360"/>
              <a:ext cx="54000" cy="49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3900600" y="4500360"/>
              <a:ext cx="0" cy="248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3873240" y="4475160"/>
              <a:ext cx="54360" cy="49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900600" y="4002840"/>
              <a:ext cx="0" cy="248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3873240" y="3978360"/>
              <a:ext cx="54360" cy="49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4823640" y="4500360"/>
              <a:ext cx="0" cy="248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823640" y="4002840"/>
              <a:ext cx="0" cy="248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3628800" y="4848480"/>
              <a:ext cx="0" cy="14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552200" y="4848480"/>
              <a:ext cx="0" cy="646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475240" y="4848480"/>
              <a:ext cx="0" cy="14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601800" y="4972680"/>
              <a:ext cx="54000" cy="49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4524840" y="4972680"/>
              <a:ext cx="54360" cy="49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48240" y="4972680"/>
              <a:ext cx="54360" cy="49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 flipV="1">
              <a:off x="6018480" y="4500360"/>
              <a:ext cx="0" cy="1044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 flipV="1">
              <a:off x="6018480" y="3455640"/>
              <a:ext cx="720" cy="646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5991120" y="5320800"/>
              <a:ext cx="54360" cy="49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3" name=""/>
            <p:cNvGrpSpPr/>
            <p:nvPr/>
          </p:nvGrpSpPr>
          <p:grpSpPr>
            <a:xfrm>
              <a:off x="5909760" y="5544360"/>
              <a:ext cx="487080" cy="297720"/>
              <a:chOff x="5909760" y="5544360"/>
              <a:chExt cx="487080" cy="297720"/>
            </a:xfrm>
          </p:grpSpPr>
          <p:grpSp>
            <p:nvGrpSpPr>
              <p:cNvPr id="484" name=""/>
              <p:cNvGrpSpPr/>
              <p:nvPr/>
            </p:nvGrpSpPr>
            <p:grpSpPr>
              <a:xfrm>
                <a:off x="5909760" y="5544360"/>
                <a:ext cx="217080" cy="297720"/>
                <a:chOff x="5909760" y="5544360"/>
                <a:chExt cx="217080" cy="297720"/>
              </a:xfrm>
            </p:grpSpPr>
            <p:sp>
              <p:nvSpPr>
                <p:cNvPr id="485" name=""/>
                <p:cNvSpPr/>
                <p:nvPr/>
              </p:nvSpPr>
              <p:spPr>
                <a:xfrm>
                  <a:off x="5909760" y="5743080"/>
                  <a:ext cx="2170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6" name=""/>
                <p:cNvSpPr/>
                <p:nvPr/>
              </p:nvSpPr>
              <p:spPr>
                <a:xfrm>
                  <a:off x="5909760" y="5643360"/>
                  <a:ext cx="2170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7" name=""/>
                <p:cNvSpPr/>
                <p:nvPr/>
              </p:nvSpPr>
              <p:spPr>
                <a:xfrm>
                  <a:off x="6018120" y="5743080"/>
                  <a:ext cx="0" cy="990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8" name=""/>
                <p:cNvSpPr/>
                <p:nvPr/>
              </p:nvSpPr>
              <p:spPr>
                <a:xfrm>
                  <a:off x="6018120" y="5544360"/>
                  <a:ext cx="0" cy="990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89" name=""/>
              <p:cNvSpPr/>
              <p:nvPr/>
            </p:nvSpPr>
            <p:spPr>
              <a:xfrm>
                <a:off x="6018120" y="5559840"/>
                <a:ext cx="3787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10p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0" name=""/>
            <p:cNvSpPr/>
            <p:nvPr/>
          </p:nvSpPr>
          <p:spPr>
            <a:xfrm>
              <a:off x="4552200" y="5693400"/>
              <a:ext cx="0" cy="9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5366880" y="5693400"/>
              <a:ext cx="0" cy="9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 flipV="1">
              <a:off x="5366880" y="5345280"/>
              <a:ext cx="0" cy="14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366880" y="5345280"/>
              <a:ext cx="651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4" name=""/>
            <p:cNvGrpSpPr/>
            <p:nvPr/>
          </p:nvGrpSpPr>
          <p:grpSpPr>
            <a:xfrm>
              <a:off x="5963760" y="4102560"/>
              <a:ext cx="108720" cy="397080"/>
              <a:chOff x="5963760" y="4102560"/>
              <a:chExt cx="108720" cy="397080"/>
            </a:xfrm>
          </p:grpSpPr>
          <p:grpSp>
            <p:nvGrpSpPr>
              <p:cNvPr id="495" name=""/>
              <p:cNvGrpSpPr/>
              <p:nvPr/>
            </p:nvGrpSpPr>
            <p:grpSpPr>
              <a:xfrm>
                <a:off x="5963760" y="4150080"/>
                <a:ext cx="108720" cy="299520"/>
                <a:chOff x="5963760" y="4150080"/>
                <a:chExt cx="108720" cy="299520"/>
              </a:xfrm>
            </p:grpSpPr>
            <p:sp>
              <p:nvSpPr>
                <p:cNvPr id="496" name=""/>
                <p:cNvSpPr/>
                <p:nvPr/>
              </p:nvSpPr>
              <p:spPr>
                <a:xfrm flipV="1">
                  <a:off x="5964120" y="4150080"/>
                  <a:ext cx="56520" cy="25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7" name=""/>
                <p:cNvSpPr/>
                <p:nvPr/>
              </p:nvSpPr>
              <p:spPr>
                <a:xfrm flipH="1" flipV="1">
                  <a:off x="5963760" y="4374720"/>
                  <a:ext cx="108360" cy="49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8" name=""/>
                <p:cNvSpPr/>
                <p:nvPr/>
              </p:nvSpPr>
              <p:spPr>
                <a:xfrm flipV="1">
                  <a:off x="5964120" y="4324680"/>
                  <a:ext cx="108360" cy="49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 flipH="1" flipV="1">
                  <a:off x="5963760" y="4275360"/>
                  <a:ext cx="108360" cy="49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0" name=""/>
                <p:cNvSpPr/>
                <p:nvPr/>
              </p:nvSpPr>
              <p:spPr>
                <a:xfrm flipV="1">
                  <a:off x="5964120" y="4225680"/>
                  <a:ext cx="108360" cy="49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1" name=""/>
                <p:cNvSpPr/>
                <p:nvPr/>
              </p:nvSpPr>
              <p:spPr>
                <a:xfrm flipH="1" flipV="1">
                  <a:off x="5963760" y="4175640"/>
                  <a:ext cx="108360" cy="49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 flipV="1">
                  <a:off x="6015960" y="4424040"/>
                  <a:ext cx="56520" cy="25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03" name=""/>
              <p:cNvSpPr/>
              <p:nvPr/>
            </p:nvSpPr>
            <p:spPr>
              <a:xfrm>
                <a:off x="6018120" y="4450320"/>
                <a:ext cx="0" cy="49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6018120" y="4102560"/>
                <a:ext cx="0" cy="4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5" name=""/>
            <p:cNvGrpSpPr/>
            <p:nvPr/>
          </p:nvGrpSpPr>
          <p:grpSpPr>
            <a:xfrm>
              <a:off x="2017080" y="3047400"/>
              <a:ext cx="455040" cy="408240"/>
              <a:chOff x="2017080" y="3047400"/>
              <a:chExt cx="455040" cy="408240"/>
            </a:xfrm>
          </p:grpSpPr>
          <p:grpSp>
            <p:nvGrpSpPr>
              <p:cNvPr id="506" name=""/>
              <p:cNvGrpSpPr/>
              <p:nvPr/>
            </p:nvGrpSpPr>
            <p:grpSpPr>
              <a:xfrm>
                <a:off x="2148120" y="3257280"/>
                <a:ext cx="193320" cy="198360"/>
                <a:chOff x="2148120" y="3257280"/>
                <a:chExt cx="193320" cy="198360"/>
              </a:xfrm>
            </p:grpSpPr>
            <p:sp>
              <p:nvSpPr>
                <p:cNvPr id="507" name=""/>
                <p:cNvSpPr/>
                <p:nvPr/>
              </p:nvSpPr>
              <p:spPr>
                <a:xfrm>
                  <a:off x="2244960" y="3257280"/>
                  <a:ext cx="0" cy="198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 flipH="1">
                  <a:off x="2148120" y="3257280"/>
                  <a:ext cx="1933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09" name=""/>
              <p:cNvSpPr/>
              <p:nvPr/>
            </p:nvSpPr>
            <p:spPr>
              <a:xfrm>
                <a:off x="2017080" y="3047400"/>
                <a:ext cx="4550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VDD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0" name=""/>
            <p:cNvSpPr/>
            <p:nvPr/>
          </p:nvSpPr>
          <p:spPr>
            <a:xfrm>
              <a:off x="1836720" y="3456000"/>
              <a:ext cx="0" cy="198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2651040" y="3456000"/>
              <a:ext cx="0" cy="198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2" name=""/>
            <p:cNvGrpSpPr/>
            <p:nvPr/>
          </p:nvGrpSpPr>
          <p:grpSpPr>
            <a:xfrm>
              <a:off x="5789880" y="3047400"/>
              <a:ext cx="455040" cy="408240"/>
              <a:chOff x="5789880" y="3047400"/>
              <a:chExt cx="455040" cy="408240"/>
            </a:xfrm>
          </p:grpSpPr>
          <p:grpSp>
            <p:nvGrpSpPr>
              <p:cNvPr id="513" name=""/>
              <p:cNvGrpSpPr/>
              <p:nvPr/>
            </p:nvGrpSpPr>
            <p:grpSpPr>
              <a:xfrm>
                <a:off x="5936760" y="3257280"/>
                <a:ext cx="161640" cy="198360"/>
                <a:chOff x="5936760" y="3257280"/>
                <a:chExt cx="161640" cy="198360"/>
              </a:xfrm>
            </p:grpSpPr>
            <p:sp>
              <p:nvSpPr>
                <p:cNvPr id="514" name=""/>
                <p:cNvSpPr/>
                <p:nvPr/>
              </p:nvSpPr>
              <p:spPr>
                <a:xfrm>
                  <a:off x="6017760" y="3257280"/>
                  <a:ext cx="0" cy="198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5" name=""/>
                <p:cNvSpPr/>
                <p:nvPr/>
              </p:nvSpPr>
              <p:spPr>
                <a:xfrm flipH="1">
                  <a:off x="5936760" y="3257280"/>
                  <a:ext cx="161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16" name=""/>
              <p:cNvSpPr/>
              <p:nvPr/>
            </p:nvSpPr>
            <p:spPr>
              <a:xfrm>
                <a:off x="5789880" y="3047400"/>
                <a:ext cx="4550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VDD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7" name=""/>
            <p:cNvSpPr/>
            <p:nvPr/>
          </p:nvSpPr>
          <p:spPr>
            <a:xfrm flipV="1">
              <a:off x="4552200" y="3455640"/>
              <a:ext cx="0" cy="695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8" name=""/>
            <p:cNvGrpSpPr/>
            <p:nvPr/>
          </p:nvGrpSpPr>
          <p:grpSpPr>
            <a:xfrm>
              <a:off x="4321440" y="3047400"/>
              <a:ext cx="455040" cy="408240"/>
              <a:chOff x="4321440" y="3047400"/>
              <a:chExt cx="455040" cy="408240"/>
            </a:xfrm>
          </p:grpSpPr>
          <p:grpSp>
            <p:nvGrpSpPr>
              <p:cNvPr id="519" name=""/>
              <p:cNvGrpSpPr/>
              <p:nvPr/>
            </p:nvGrpSpPr>
            <p:grpSpPr>
              <a:xfrm>
                <a:off x="4469760" y="3257280"/>
                <a:ext cx="161640" cy="198360"/>
                <a:chOff x="4469760" y="3257280"/>
                <a:chExt cx="161640" cy="198360"/>
              </a:xfrm>
            </p:grpSpPr>
            <p:sp>
              <p:nvSpPr>
                <p:cNvPr id="520" name=""/>
                <p:cNvSpPr/>
                <p:nvPr/>
              </p:nvSpPr>
              <p:spPr>
                <a:xfrm>
                  <a:off x="4550760" y="3257280"/>
                  <a:ext cx="0" cy="198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1" name=""/>
                <p:cNvSpPr/>
                <p:nvPr/>
              </p:nvSpPr>
              <p:spPr>
                <a:xfrm flipH="1">
                  <a:off x="4469760" y="3257280"/>
                  <a:ext cx="161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22" name=""/>
              <p:cNvSpPr/>
              <p:nvPr/>
            </p:nvSpPr>
            <p:spPr>
              <a:xfrm>
                <a:off x="4321440" y="3047400"/>
                <a:ext cx="4550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VDD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23" name=""/>
            <p:cNvSpPr/>
            <p:nvPr/>
          </p:nvSpPr>
          <p:spPr>
            <a:xfrm flipV="1">
              <a:off x="5475240" y="3455640"/>
              <a:ext cx="0" cy="695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 flipV="1">
              <a:off x="3628800" y="3455640"/>
              <a:ext cx="0" cy="695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 flipH="1">
              <a:off x="3628440" y="3456000"/>
              <a:ext cx="1846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4524840" y="3431160"/>
              <a:ext cx="54360" cy="49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 flipH="1">
              <a:off x="1836720" y="3456000"/>
              <a:ext cx="814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2216880" y="3431160"/>
              <a:ext cx="54360" cy="49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9" name=""/>
            <p:cNvGrpSpPr/>
            <p:nvPr/>
          </p:nvGrpSpPr>
          <p:grpSpPr>
            <a:xfrm>
              <a:off x="5855040" y="6041880"/>
              <a:ext cx="274680" cy="199440"/>
              <a:chOff x="5855040" y="6041880"/>
              <a:chExt cx="274680" cy="199440"/>
            </a:xfrm>
          </p:grpSpPr>
          <p:sp>
            <p:nvSpPr>
              <p:cNvPr id="530" name=""/>
              <p:cNvSpPr/>
              <p:nvPr/>
            </p:nvSpPr>
            <p:spPr>
              <a:xfrm>
                <a:off x="5909400" y="6141240"/>
                <a:ext cx="216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 flipH="1">
                <a:off x="5855040" y="6141240"/>
                <a:ext cx="55080" cy="100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 flipH="1">
                <a:off x="5964480" y="6141240"/>
                <a:ext cx="55080" cy="100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 flipH="1">
                <a:off x="6074280" y="6141240"/>
                <a:ext cx="55440" cy="100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 flipV="1">
                <a:off x="6018120" y="6041880"/>
                <a:ext cx="0" cy="99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5" name=""/>
            <p:cNvGrpSpPr/>
            <p:nvPr/>
          </p:nvGrpSpPr>
          <p:grpSpPr>
            <a:xfrm>
              <a:off x="4752720" y="6290280"/>
              <a:ext cx="412200" cy="401400"/>
              <a:chOff x="4752720" y="6290280"/>
              <a:chExt cx="412200" cy="401400"/>
            </a:xfrm>
          </p:grpSpPr>
          <p:sp>
            <p:nvSpPr>
              <p:cNvPr id="536" name=""/>
              <p:cNvSpPr/>
              <p:nvPr/>
            </p:nvSpPr>
            <p:spPr>
              <a:xfrm>
                <a:off x="4752720" y="6445440"/>
                <a:ext cx="4122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VS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37" name=""/>
              <p:cNvGrpSpPr/>
              <p:nvPr/>
            </p:nvGrpSpPr>
            <p:grpSpPr>
              <a:xfrm>
                <a:off x="4851360" y="6290280"/>
                <a:ext cx="217080" cy="198720"/>
                <a:chOff x="4851360" y="6290280"/>
                <a:chExt cx="217080" cy="198720"/>
              </a:xfrm>
            </p:grpSpPr>
            <p:sp>
              <p:nvSpPr>
                <p:cNvPr id="538" name=""/>
                <p:cNvSpPr/>
                <p:nvPr/>
              </p:nvSpPr>
              <p:spPr>
                <a:xfrm flipH="1">
                  <a:off x="4851360" y="6489000"/>
                  <a:ext cx="2170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9" name=""/>
                <p:cNvSpPr/>
                <p:nvPr/>
              </p:nvSpPr>
              <p:spPr>
                <a:xfrm flipV="1">
                  <a:off x="4957920" y="6290280"/>
                  <a:ext cx="0" cy="1987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40" name=""/>
            <p:cNvSpPr/>
            <p:nvPr/>
          </p:nvSpPr>
          <p:spPr>
            <a:xfrm>
              <a:off x="6018480" y="5842800"/>
              <a:ext cx="0" cy="198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 flipH="1">
              <a:off x="4552200" y="6290280"/>
              <a:ext cx="814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4932000" y="6265440"/>
              <a:ext cx="54360" cy="49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4552200" y="6190920"/>
              <a:ext cx="0" cy="9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5366880" y="6190920"/>
              <a:ext cx="0" cy="9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5" name=""/>
            <p:cNvGrpSpPr/>
            <p:nvPr/>
          </p:nvGrpSpPr>
          <p:grpSpPr>
            <a:xfrm>
              <a:off x="4497480" y="5793120"/>
              <a:ext cx="404640" cy="397440"/>
              <a:chOff x="4497480" y="5793120"/>
              <a:chExt cx="404640" cy="397440"/>
            </a:xfrm>
          </p:grpSpPr>
          <p:grpSp>
            <p:nvGrpSpPr>
              <p:cNvPr id="546" name=""/>
              <p:cNvGrpSpPr/>
              <p:nvPr/>
            </p:nvGrpSpPr>
            <p:grpSpPr>
              <a:xfrm>
                <a:off x="4497480" y="5793120"/>
                <a:ext cx="108720" cy="397440"/>
                <a:chOff x="4497480" y="5793120"/>
                <a:chExt cx="108720" cy="397440"/>
              </a:xfrm>
            </p:grpSpPr>
            <p:grpSp>
              <p:nvGrpSpPr>
                <p:cNvPr id="547" name=""/>
                <p:cNvGrpSpPr/>
                <p:nvPr/>
              </p:nvGrpSpPr>
              <p:grpSpPr>
                <a:xfrm>
                  <a:off x="4497480" y="5840640"/>
                  <a:ext cx="108720" cy="299880"/>
                  <a:chOff x="4497480" y="5840640"/>
                  <a:chExt cx="108720" cy="299880"/>
                </a:xfrm>
              </p:grpSpPr>
              <p:sp>
                <p:nvSpPr>
                  <p:cNvPr id="548" name=""/>
                  <p:cNvSpPr/>
                  <p:nvPr/>
                </p:nvSpPr>
                <p:spPr>
                  <a:xfrm flipV="1">
                    <a:off x="4497840" y="5840640"/>
                    <a:ext cx="56520" cy="259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880" bIns="-208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9" name=""/>
                  <p:cNvSpPr/>
                  <p:nvPr/>
                </p:nvSpPr>
                <p:spPr>
                  <a:xfrm flipH="1" flipV="1">
                    <a:off x="4497480" y="6065640"/>
                    <a:ext cx="108360" cy="496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" bIns="28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0" name=""/>
                  <p:cNvSpPr/>
                  <p:nvPr/>
                </p:nvSpPr>
                <p:spPr>
                  <a:xfrm flipV="1">
                    <a:off x="4497840" y="6015600"/>
                    <a:ext cx="108360" cy="493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1" name=""/>
                  <p:cNvSpPr/>
                  <p:nvPr/>
                </p:nvSpPr>
                <p:spPr>
                  <a:xfrm flipH="1" flipV="1">
                    <a:off x="4497480" y="5965920"/>
                    <a:ext cx="108360" cy="496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" bIns="28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2" name=""/>
                  <p:cNvSpPr/>
                  <p:nvPr/>
                </p:nvSpPr>
                <p:spPr>
                  <a:xfrm flipV="1">
                    <a:off x="4497840" y="5916240"/>
                    <a:ext cx="108360" cy="496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" bIns="28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3" name=""/>
                  <p:cNvSpPr/>
                  <p:nvPr/>
                </p:nvSpPr>
                <p:spPr>
                  <a:xfrm flipH="1" flipV="1">
                    <a:off x="4497480" y="5866200"/>
                    <a:ext cx="108360" cy="493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4" name=""/>
                  <p:cNvSpPr/>
                  <p:nvPr/>
                </p:nvSpPr>
                <p:spPr>
                  <a:xfrm flipV="1">
                    <a:off x="4549680" y="6114960"/>
                    <a:ext cx="56520" cy="255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240" bIns="-21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55" name=""/>
                <p:cNvSpPr/>
                <p:nvPr/>
              </p:nvSpPr>
              <p:spPr>
                <a:xfrm>
                  <a:off x="4551840" y="6141240"/>
                  <a:ext cx="0" cy="493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6" name=""/>
                <p:cNvSpPr/>
                <p:nvPr/>
              </p:nvSpPr>
              <p:spPr>
                <a:xfrm>
                  <a:off x="4551840" y="5793120"/>
                  <a:ext cx="0" cy="49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57" name=""/>
              <p:cNvSpPr/>
              <p:nvPr/>
            </p:nvSpPr>
            <p:spPr>
              <a:xfrm>
                <a:off x="4558320" y="5849280"/>
                <a:ext cx="343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2K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8" name=""/>
            <p:cNvGrpSpPr/>
            <p:nvPr/>
          </p:nvGrpSpPr>
          <p:grpSpPr>
            <a:xfrm>
              <a:off x="5312160" y="5793120"/>
              <a:ext cx="108720" cy="397440"/>
              <a:chOff x="5312160" y="5793120"/>
              <a:chExt cx="108720" cy="397440"/>
            </a:xfrm>
          </p:grpSpPr>
          <p:grpSp>
            <p:nvGrpSpPr>
              <p:cNvPr id="559" name=""/>
              <p:cNvGrpSpPr/>
              <p:nvPr/>
            </p:nvGrpSpPr>
            <p:grpSpPr>
              <a:xfrm>
                <a:off x="5312160" y="5840640"/>
                <a:ext cx="108720" cy="299880"/>
                <a:chOff x="5312160" y="5840640"/>
                <a:chExt cx="108720" cy="299880"/>
              </a:xfrm>
            </p:grpSpPr>
            <p:sp>
              <p:nvSpPr>
                <p:cNvPr id="560" name=""/>
                <p:cNvSpPr/>
                <p:nvPr/>
              </p:nvSpPr>
              <p:spPr>
                <a:xfrm flipV="1">
                  <a:off x="5312520" y="5840640"/>
                  <a:ext cx="56520" cy="25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1" name=""/>
                <p:cNvSpPr/>
                <p:nvPr/>
              </p:nvSpPr>
              <p:spPr>
                <a:xfrm flipH="1" flipV="1">
                  <a:off x="5312160" y="6065640"/>
                  <a:ext cx="108360" cy="49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2" name=""/>
                <p:cNvSpPr/>
                <p:nvPr/>
              </p:nvSpPr>
              <p:spPr>
                <a:xfrm flipV="1">
                  <a:off x="5312520" y="6015600"/>
                  <a:ext cx="108360" cy="49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3" name=""/>
                <p:cNvSpPr/>
                <p:nvPr/>
              </p:nvSpPr>
              <p:spPr>
                <a:xfrm flipH="1" flipV="1">
                  <a:off x="5312160" y="5965920"/>
                  <a:ext cx="108360" cy="49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4" name=""/>
                <p:cNvSpPr/>
                <p:nvPr/>
              </p:nvSpPr>
              <p:spPr>
                <a:xfrm flipV="1">
                  <a:off x="5312520" y="5916240"/>
                  <a:ext cx="108360" cy="49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5" name=""/>
                <p:cNvSpPr/>
                <p:nvPr/>
              </p:nvSpPr>
              <p:spPr>
                <a:xfrm flipH="1" flipV="1">
                  <a:off x="5312160" y="5866200"/>
                  <a:ext cx="108360" cy="49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6" name=""/>
                <p:cNvSpPr/>
                <p:nvPr/>
              </p:nvSpPr>
              <p:spPr>
                <a:xfrm flipV="1">
                  <a:off x="5364360" y="6114960"/>
                  <a:ext cx="56520" cy="25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67" name=""/>
              <p:cNvSpPr/>
              <p:nvPr/>
            </p:nvSpPr>
            <p:spPr>
              <a:xfrm>
                <a:off x="5366520" y="6141240"/>
                <a:ext cx="0" cy="49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5366520" y="5793120"/>
                <a:ext cx="0" cy="4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9" name=""/>
            <p:cNvSpPr/>
            <p:nvPr/>
          </p:nvSpPr>
          <p:spPr>
            <a:xfrm>
              <a:off x="5371200" y="5849280"/>
              <a:ext cx="343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2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991840" y="4158720"/>
              <a:ext cx="407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20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2964600" y="3999960"/>
              <a:ext cx="476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cmd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2964600" y="4496040"/>
              <a:ext cx="476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cmd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887640" y="3999960"/>
              <a:ext cx="476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cmd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3887640" y="4496040"/>
              <a:ext cx="476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cmd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4812120" y="3999960"/>
              <a:ext cx="476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cmd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4812120" y="4496040"/>
              <a:ext cx="476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cmd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4796280" y="5569200"/>
              <a:ext cx="54360" cy="49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1523520" y="3589560"/>
              <a:ext cx="47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1200µ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2µ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2485800" y="3589560"/>
              <a:ext cx="47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1200µ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2µ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1504080" y="4086000"/>
              <a:ext cx="420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300µ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0.8µ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2536560" y="4086000"/>
              <a:ext cx="420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300µ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0.8µ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3536640" y="4076640"/>
              <a:ext cx="420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600µ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2µ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3514680" y="4584960"/>
              <a:ext cx="420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300µ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0.8µ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4460400" y="4076640"/>
              <a:ext cx="420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400µ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2µ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4436640" y="4584960"/>
              <a:ext cx="420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300µ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0.8µ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5382720" y="4076640"/>
              <a:ext cx="420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300µ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2µ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5361120" y="4584960"/>
              <a:ext cx="420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300µ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0.8µ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8" name=""/>
            <p:cNvGrpSpPr/>
            <p:nvPr/>
          </p:nvGrpSpPr>
          <p:grpSpPr>
            <a:xfrm>
              <a:off x="1213200" y="5395320"/>
              <a:ext cx="274320" cy="199800"/>
              <a:chOff x="1213200" y="5395320"/>
              <a:chExt cx="274320" cy="199800"/>
            </a:xfrm>
          </p:grpSpPr>
          <p:sp>
            <p:nvSpPr>
              <p:cNvPr id="589" name=""/>
              <p:cNvSpPr/>
              <p:nvPr/>
            </p:nvSpPr>
            <p:spPr>
              <a:xfrm>
                <a:off x="1267560" y="5494680"/>
                <a:ext cx="217080" cy="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flipH="1">
                <a:off x="1213200" y="5494680"/>
                <a:ext cx="55080" cy="10044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flipH="1">
                <a:off x="1322640" y="5494680"/>
                <a:ext cx="55080" cy="10044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flipH="1">
                <a:off x="1432440" y="5494680"/>
                <a:ext cx="55080" cy="10044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flipV="1">
                <a:off x="1376280" y="5395320"/>
                <a:ext cx="0" cy="9936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4" name=""/>
            <p:cNvGrpSpPr/>
            <p:nvPr/>
          </p:nvGrpSpPr>
          <p:grpSpPr>
            <a:xfrm>
              <a:off x="887040" y="5395320"/>
              <a:ext cx="274320" cy="199440"/>
              <a:chOff x="887040" y="5395320"/>
              <a:chExt cx="274320" cy="199440"/>
            </a:xfrm>
          </p:grpSpPr>
          <p:sp>
            <p:nvSpPr>
              <p:cNvPr id="595" name=""/>
              <p:cNvSpPr/>
              <p:nvPr/>
            </p:nvSpPr>
            <p:spPr>
              <a:xfrm flipH="1">
                <a:off x="887040" y="5494680"/>
                <a:ext cx="55080" cy="10008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flipH="1">
                <a:off x="996480" y="5494680"/>
                <a:ext cx="55080" cy="10008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flipH="1">
                <a:off x="1106280" y="5494680"/>
                <a:ext cx="55080" cy="10008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941400" y="5494680"/>
                <a:ext cx="217080" cy="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flipV="1">
                <a:off x="1050120" y="5395320"/>
                <a:ext cx="0" cy="9936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0" name=""/>
            <p:cNvSpPr/>
            <p:nvPr/>
          </p:nvSpPr>
          <p:spPr>
            <a:xfrm flipV="1">
              <a:off x="1376280" y="5096880"/>
              <a:ext cx="0" cy="2980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 flipV="1">
              <a:off x="1376280" y="4500000"/>
              <a:ext cx="0" cy="3481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1050480" y="4500360"/>
              <a:ext cx="65160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1349280" y="4475160"/>
              <a:ext cx="54360" cy="496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4" name=""/>
            <p:cNvGrpSpPr/>
            <p:nvPr/>
          </p:nvGrpSpPr>
          <p:grpSpPr>
            <a:xfrm>
              <a:off x="1267560" y="4816080"/>
              <a:ext cx="649080" cy="297720"/>
              <a:chOff x="1267560" y="4816080"/>
              <a:chExt cx="649080" cy="297720"/>
            </a:xfrm>
          </p:grpSpPr>
          <p:grpSp>
            <p:nvGrpSpPr>
              <p:cNvPr id="605" name=""/>
              <p:cNvGrpSpPr/>
              <p:nvPr/>
            </p:nvGrpSpPr>
            <p:grpSpPr>
              <a:xfrm>
                <a:off x="1267560" y="4816080"/>
                <a:ext cx="216720" cy="297720"/>
                <a:chOff x="1267560" y="4816080"/>
                <a:chExt cx="216720" cy="297720"/>
              </a:xfrm>
            </p:grpSpPr>
            <p:sp>
              <p:nvSpPr>
                <p:cNvPr id="606" name=""/>
                <p:cNvSpPr/>
                <p:nvPr/>
              </p:nvSpPr>
              <p:spPr>
                <a:xfrm>
                  <a:off x="1267560" y="5014800"/>
                  <a:ext cx="216720" cy="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7" name=""/>
                <p:cNvSpPr/>
                <p:nvPr/>
              </p:nvSpPr>
              <p:spPr>
                <a:xfrm>
                  <a:off x="1267560" y="4915080"/>
                  <a:ext cx="216720" cy="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8" name=""/>
                <p:cNvSpPr/>
                <p:nvPr/>
              </p:nvSpPr>
              <p:spPr>
                <a:xfrm>
                  <a:off x="1375560" y="5014800"/>
                  <a:ext cx="0" cy="9900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9" name=""/>
                <p:cNvSpPr/>
                <p:nvPr/>
              </p:nvSpPr>
              <p:spPr>
                <a:xfrm>
                  <a:off x="1375560" y="4816080"/>
                  <a:ext cx="0" cy="9900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10" name=""/>
              <p:cNvSpPr/>
              <p:nvPr/>
            </p:nvSpPr>
            <p:spPr>
              <a:xfrm>
                <a:off x="1350360" y="4826160"/>
                <a:ext cx="566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00"/>
                    </a:solidFill>
                    <a:latin typeface="Times New Roman"/>
                  </a:rPr>
                  <a:t>C lin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1" name=""/>
            <p:cNvSpPr/>
            <p:nvPr/>
          </p:nvSpPr>
          <p:spPr>
            <a:xfrm flipV="1">
              <a:off x="1050480" y="4500360"/>
              <a:ext cx="0" cy="2484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 flipV="1">
              <a:off x="1050480" y="5196240"/>
              <a:ext cx="0" cy="1987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6018480" y="4997520"/>
              <a:ext cx="271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991120" y="4972680"/>
              <a:ext cx="54360" cy="49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dLT         Opera collaboration mee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E5845-5585-43FC-BCE2-0BF26B2E3DE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9 jul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Fast and slow shapers</a:t>
            </a:r>
            <a:endParaRPr b="1" lang="en-US" sz="2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imple CR RC architect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low shaper : t = 100 ns  G ~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st shaper : t = 10 ns  G ~ 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turn current taken from integrating capacitor -&gt; area redu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2309760" y="1733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228600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9" name=""/>
          <p:cNvGrpSpPr/>
          <p:nvPr/>
        </p:nvGrpSpPr>
        <p:grpSpPr>
          <a:xfrm>
            <a:off x="730800" y="3199320"/>
            <a:ext cx="6353280" cy="2493000"/>
            <a:chOff x="730800" y="3199320"/>
            <a:chExt cx="6353280" cy="2493000"/>
          </a:xfrm>
        </p:grpSpPr>
        <p:sp>
          <p:nvSpPr>
            <p:cNvPr id="620" name=""/>
            <p:cNvSpPr/>
            <p:nvPr/>
          </p:nvSpPr>
          <p:spPr>
            <a:xfrm>
              <a:off x="1293480" y="3438000"/>
              <a:ext cx="1625040" cy="1656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1" name=""/>
            <p:cNvGrpSpPr/>
            <p:nvPr/>
          </p:nvGrpSpPr>
          <p:grpSpPr>
            <a:xfrm>
              <a:off x="1061280" y="4082040"/>
              <a:ext cx="1508760" cy="367920"/>
              <a:chOff x="1061280" y="4082040"/>
              <a:chExt cx="1508760" cy="367920"/>
            </a:xfrm>
          </p:grpSpPr>
          <p:sp>
            <p:nvSpPr>
              <p:cNvPr id="622" name=""/>
              <p:cNvSpPr/>
              <p:nvPr/>
            </p:nvSpPr>
            <p:spPr>
              <a:xfrm>
                <a:off x="1061280" y="4266000"/>
                <a:ext cx="464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 anchorCtr="1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2105640" y="4266000"/>
                <a:ext cx="464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 anchorCtr="1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flipH="1" flipV="1" rot="16200000">
                <a:off x="1630800" y="3975840"/>
                <a:ext cx="367920" cy="57996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000" spc="-1" strike="noStrike">
                    <a:solidFill>
                      <a:srgbClr val="000000"/>
                    </a:solidFill>
                    <a:latin typeface="Times New Roman"/>
                  </a:rPr>
                  <a:t>Preamp.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5" name=""/>
            <p:cNvGrpSpPr/>
            <p:nvPr/>
          </p:nvGrpSpPr>
          <p:grpSpPr>
            <a:xfrm>
              <a:off x="4311720" y="4082040"/>
              <a:ext cx="1508400" cy="367920"/>
              <a:chOff x="4311720" y="4082040"/>
              <a:chExt cx="1508400" cy="367920"/>
            </a:xfrm>
          </p:grpSpPr>
          <p:sp>
            <p:nvSpPr>
              <p:cNvPr id="626" name=""/>
              <p:cNvSpPr/>
              <p:nvPr/>
            </p:nvSpPr>
            <p:spPr>
              <a:xfrm>
                <a:off x="4311720" y="4266000"/>
                <a:ext cx="464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 anchorCtr="1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5356080" y="4266000"/>
                <a:ext cx="464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 anchorCtr="1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 flipH="1" flipV="1" rot="16200000">
                <a:off x="4880880" y="3975840"/>
                <a:ext cx="367920" cy="57996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000" spc="-1" strike="noStrike">
                    <a:solidFill>
                      <a:srgbClr val="000000"/>
                    </a:solidFill>
                    <a:latin typeface="Times New Roman"/>
                  </a:rPr>
                  <a:t>Slow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000" spc="-1" strike="noStrike">
                    <a:solidFill>
                      <a:srgbClr val="000000"/>
                    </a:solidFill>
                    <a:latin typeface="Times New Roman"/>
                  </a:rPr>
                  <a:t>Shape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9" name=""/>
            <p:cNvGrpSpPr/>
            <p:nvPr/>
          </p:nvGrpSpPr>
          <p:grpSpPr>
            <a:xfrm>
              <a:off x="3267000" y="4726440"/>
              <a:ext cx="1508400" cy="367920"/>
              <a:chOff x="3267000" y="4726440"/>
              <a:chExt cx="1508400" cy="367920"/>
            </a:xfrm>
          </p:grpSpPr>
          <p:sp>
            <p:nvSpPr>
              <p:cNvPr id="630" name=""/>
              <p:cNvSpPr/>
              <p:nvPr/>
            </p:nvSpPr>
            <p:spPr>
              <a:xfrm>
                <a:off x="3267000" y="4910400"/>
                <a:ext cx="464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 anchorCtr="1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4311360" y="4910400"/>
                <a:ext cx="464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 anchorCtr="1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flipH="1" flipV="1" rot="16200000">
                <a:off x="3836160" y="4620240"/>
                <a:ext cx="367920" cy="57996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000" spc="-1" strike="noStrike">
                    <a:solidFill>
                      <a:srgbClr val="000000"/>
                    </a:solidFill>
                    <a:latin typeface="Times New Roman"/>
                  </a:rPr>
                  <a:t>Fast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000" spc="-1" strike="noStrike">
                    <a:solidFill>
                      <a:srgbClr val="000000"/>
                    </a:solidFill>
                    <a:latin typeface="Times New Roman"/>
                  </a:rPr>
                  <a:t>Shape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3" name=""/>
            <p:cNvGrpSpPr/>
            <p:nvPr/>
          </p:nvGrpSpPr>
          <p:grpSpPr>
            <a:xfrm>
              <a:off x="2454120" y="4450320"/>
              <a:ext cx="232200" cy="275760"/>
              <a:chOff x="2454120" y="4450320"/>
              <a:chExt cx="232200" cy="275760"/>
            </a:xfrm>
          </p:grpSpPr>
          <p:sp>
            <p:nvSpPr>
              <p:cNvPr id="634" name=""/>
              <p:cNvSpPr/>
              <p:nvPr/>
            </p:nvSpPr>
            <p:spPr>
              <a:xfrm>
                <a:off x="2454120" y="4634280"/>
                <a:ext cx="232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2454120" y="4542120"/>
                <a:ext cx="232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2570040" y="4634280"/>
                <a:ext cx="0" cy="9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2570040" y="4450320"/>
                <a:ext cx="0" cy="9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8" name=""/>
            <p:cNvGrpSpPr/>
            <p:nvPr/>
          </p:nvGrpSpPr>
          <p:grpSpPr>
            <a:xfrm>
              <a:off x="2512080" y="3713760"/>
              <a:ext cx="115920" cy="367560"/>
              <a:chOff x="2512080" y="3713760"/>
              <a:chExt cx="115920" cy="367560"/>
            </a:xfrm>
          </p:grpSpPr>
          <p:grpSp>
            <p:nvGrpSpPr>
              <p:cNvPr id="639" name=""/>
              <p:cNvGrpSpPr/>
              <p:nvPr/>
            </p:nvGrpSpPr>
            <p:grpSpPr>
              <a:xfrm>
                <a:off x="2512080" y="3757320"/>
                <a:ext cx="115920" cy="277920"/>
                <a:chOff x="2512080" y="3757320"/>
                <a:chExt cx="115920" cy="277920"/>
              </a:xfrm>
            </p:grpSpPr>
            <p:sp>
              <p:nvSpPr>
                <p:cNvPr id="640" name=""/>
                <p:cNvSpPr/>
                <p:nvPr/>
              </p:nvSpPr>
              <p:spPr>
                <a:xfrm flipV="1">
                  <a:off x="2512080" y="3757320"/>
                  <a:ext cx="60120" cy="24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1" name=""/>
                <p:cNvSpPr/>
                <p:nvPr/>
              </p:nvSpPr>
              <p:spPr>
                <a:xfrm flipH="1" flipV="1">
                  <a:off x="2512080" y="3965400"/>
                  <a:ext cx="115920" cy="46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2" name=""/>
                <p:cNvSpPr/>
                <p:nvPr/>
              </p:nvSpPr>
              <p:spPr>
                <a:xfrm flipV="1">
                  <a:off x="2512080" y="3919320"/>
                  <a:ext cx="115920" cy="45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3" name=""/>
                <p:cNvSpPr/>
                <p:nvPr/>
              </p:nvSpPr>
              <p:spPr>
                <a:xfrm flipH="1" flipV="1">
                  <a:off x="2512080" y="3873600"/>
                  <a:ext cx="115920" cy="46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4" name=""/>
                <p:cNvSpPr/>
                <p:nvPr/>
              </p:nvSpPr>
              <p:spPr>
                <a:xfrm flipV="1">
                  <a:off x="2512080" y="3827520"/>
                  <a:ext cx="115920" cy="46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5" name=""/>
                <p:cNvSpPr/>
                <p:nvPr/>
              </p:nvSpPr>
              <p:spPr>
                <a:xfrm flipH="1" flipV="1">
                  <a:off x="2512080" y="3781440"/>
                  <a:ext cx="115920" cy="45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6" name=""/>
                <p:cNvSpPr/>
                <p:nvPr/>
              </p:nvSpPr>
              <p:spPr>
                <a:xfrm flipV="1">
                  <a:off x="2567520" y="4011480"/>
                  <a:ext cx="60120" cy="23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47" name=""/>
              <p:cNvSpPr/>
              <p:nvPr/>
            </p:nvSpPr>
            <p:spPr>
              <a:xfrm>
                <a:off x="2570040" y="4035600"/>
                <a:ext cx="0" cy="45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2570040" y="3713760"/>
                <a:ext cx="0" cy="46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9" name=""/>
            <p:cNvGrpSpPr/>
            <p:nvPr/>
          </p:nvGrpSpPr>
          <p:grpSpPr>
            <a:xfrm>
              <a:off x="4891680" y="3437640"/>
              <a:ext cx="348120" cy="183960"/>
              <a:chOff x="4891680" y="3437640"/>
              <a:chExt cx="348120" cy="183960"/>
            </a:xfrm>
          </p:grpSpPr>
          <p:sp>
            <p:nvSpPr>
              <p:cNvPr id="650" name=""/>
              <p:cNvSpPr/>
              <p:nvPr/>
            </p:nvSpPr>
            <p:spPr>
              <a:xfrm flipV="1">
                <a:off x="5123880" y="3437640"/>
                <a:ext cx="0" cy="183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 flipV="1">
                <a:off x="5007600" y="3437640"/>
                <a:ext cx="0" cy="183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5123880" y="3529800"/>
                <a:ext cx="115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4891680" y="3529800"/>
                <a:ext cx="115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4" name=""/>
            <p:cNvSpPr/>
            <p:nvPr/>
          </p:nvSpPr>
          <p:spPr>
            <a:xfrm flipH="1">
              <a:off x="2570040" y="4266000"/>
              <a:ext cx="464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 flipH="1">
              <a:off x="3846960" y="4266000"/>
              <a:ext cx="46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 flipV="1">
              <a:off x="5588280" y="3530160"/>
              <a:ext cx="0" cy="73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4543560" y="3530160"/>
              <a:ext cx="348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4543560" y="3898080"/>
              <a:ext cx="290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5240160" y="3530160"/>
              <a:ext cx="348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5298120" y="3898080"/>
              <a:ext cx="289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 flipV="1">
              <a:off x="4543560" y="3530160"/>
              <a:ext cx="0" cy="73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 flipV="1">
              <a:off x="4543560" y="4910400"/>
              <a:ext cx="0" cy="73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3498840" y="5278680"/>
              <a:ext cx="348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3498840" y="5646600"/>
              <a:ext cx="290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195440" y="5278680"/>
              <a:ext cx="348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4253400" y="5646600"/>
              <a:ext cx="289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 flipV="1">
              <a:off x="3498840" y="4910400"/>
              <a:ext cx="0" cy="73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 flipV="1">
              <a:off x="2570400" y="4082040"/>
              <a:ext cx="0" cy="367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 flipH="1">
              <a:off x="2570400" y="4910400"/>
              <a:ext cx="696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 flipV="1">
              <a:off x="2570400" y="4726080"/>
              <a:ext cx="0" cy="183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4775760" y="4910400"/>
              <a:ext cx="1276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5820480" y="4266000"/>
              <a:ext cx="232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2541240" y="4243320"/>
              <a:ext cx="57960" cy="45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4514760" y="4243320"/>
              <a:ext cx="57600" cy="45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559480" y="4243320"/>
              <a:ext cx="57600" cy="45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4514760" y="4887360"/>
              <a:ext cx="5760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3470040" y="4887360"/>
              <a:ext cx="5760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3470040" y="5255640"/>
              <a:ext cx="5760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514760" y="5255640"/>
              <a:ext cx="5760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514760" y="3875040"/>
              <a:ext cx="5760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5559480" y="3875040"/>
              <a:ext cx="5760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82" name=""/>
            <p:cNvGrpSpPr/>
            <p:nvPr/>
          </p:nvGrpSpPr>
          <p:grpSpPr>
            <a:xfrm>
              <a:off x="3019680" y="3978360"/>
              <a:ext cx="378720" cy="379080"/>
              <a:chOff x="3019680" y="3978360"/>
              <a:chExt cx="378720" cy="379080"/>
            </a:xfrm>
          </p:grpSpPr>
          <p:grpSp>
            <p:nvGrpSpPr>
              <p:cNvPr id="683" name=""/>
              <p:cNvGrpSpPr/>
              <p:nvPr/>
            </p:nvGrpSpPr>
            <p:grpSpPr>
              <a:xfrm>
                <a:off x="3034440" y="4173480"/>
                <a:ext cx="347400" cy="183960"/>
                <a:chOff x="3034440" y="4173480"/>
                <a:chExt cx="347400" cy="183960"/>
              </a:xfrm>
            </p:grpSpPr>
            <p:sp>
              <p:nvSpPr>
                <p:cNvPr id="684" name=""/>
                <p:cNvSpPr/>
                <p:nvPr/>
              </p:nvSpPr>
              <p:spPr>
                <a:xfrm flipV="1">
                  <a:off x="3266280" y="4173480"/>
                  <a:ext cx="0" cy="1839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5" name=""/>
                <p:cNvSpPr/>
                <p:nvPr/>
              </p:nvSpPr>
              <p:spPr>
                <a:xfrm flipV="1">
                  <a:off x="3150000" y="4173480"/>
                  <a:ext cx="0" cy="1839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6" name=""/>
                <p:cNvSpPr/>
                <p:nvPr/>
              </p:nvSpPr>
              <p:spPr>
                <a:xfrm>
                  <a:off x="3266280" y="4265640"/>
                  <a:ext cx="115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7" name=""/>
                <p:cNvSpPr/>
                <p:nvPr/>
              </p:nvSpPr>
              <p:spPr>
                <a:xfrm>
                  <a:off x="3034440" y="4265640"/>
                  <a:ext cx="115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88" name=""/>
              <p:cNvSpPr/>
              <p:nvPr/>
            </p:nvSpPr>
            <p:spPr>
              <a:xfrm>
                <a:off x="3019680" y="3978360"/>
                <a:ext cx="3787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10p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9" name=""/>
            <p:cNvGrpSpPr/>
            <p:nvPr/>
          </p:nvGrpSpPr>
          <p:grpSpPr>
            <a:xfrm>
              <a:off x="3382920" y="4023360"/>
              <a:ext cx="463680" cy="288360"/>
              <a:chOff x="3382920" y="4023360"/>
              <a:chExt cx="463680" cy="288360"/>
            </a:xfrm>
          </p:grpSpPr>
          <p:grpSp>
            <p:nvGrpSpPr>
              <p:cNvPr id="690" name=""/>
              <p:cNvGrpSpPr/>
              <p:nvPr/>
            </p:nvGrpSpPr>
            <p:grpSpPr>
              <a:xfrm>
                <a:off x="3382920" y="4219560"/>
                <a:ext cx="463680" cy="92160"/>
                <a:chOff x="3382920" y="4219560"/>
                <a:chExt cx="463680" cy="92160"/>
              </a:xfrm>
            </p:grpSpPr>
            <p:grpSp>
              <p:nvGrpSpPr>
                <p:cNvPr id="691" name=""/>
                <p:cNvGrpSpPr/>
                <p:nvPr/>
              </p:nvGrpSpPr>
              <p:grpSpPr>
                <a:xfrm>
                  <a:off x="3438360" y="4219560"/>
                  <a:ext cx="349560" cy="92160"/>
                  <a:chOff x="3438360" y="4219560"/>
                  <a:chExt cx="349560" cy="92160"/>
                </a:xfrm>
              </p:grpSpPr>
              <p:sp>
                <p:nvSpPr>
                  <p:cNvPr id="692" name=""/>
                  <p:cNvSpPr/>
                  <p:nvPr/>
                </p:nvSpPr>
                <p:spPr>
                  <a:xfrm flipH="1" flipV="1">
                    <a:off x="3438360" y="4263480"/>
                    <a:ext cx="30240" cy="478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80" bIns="1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3" name=""/>
                  <p:cNvSpPr/>
                  <p:nvPr/>
                </p:nvSpPr>
                <p:spPr>
                  <a:xfrm flipH="1">
                    <a:off x="3700080" y="4219920"/>
                    <a:ext cx="57960" cy="918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4" name=""/>
                  <p:cNvSpPr/>
                  <p:nvPr/>
                </p:nvSpPr>
                <p:spPr>
                  <a:xfrm flipH="1" flipV="1">
                    <a:off x="3642480" y="4219560"/>
                    <a:ext cx="57600" cy="918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5" name=""/>
                  <p:cNvSpPr/>
                  <p:nvPr/>
                </p:nvSpPr>
                <p:spPr>
                  <a:xfrm flipH="1">
                    <a:off x="3584160" y="4219920"/>
                    <a:ext cx="57960" cy="918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6" name=""/>
                  <p:cNvSpPr/>
                  <p:nvPr/>
                </p:nvSpPr>
                <p:spPr>
                  <a:xfrm flipH="1" flipV="1">
                    <a:off x="3526200" y="4219560"/>
                    <a:ext cx="57960" cy="918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7" name=""/>
                  <p:cNvSpPr/>
                  <p:nvPr/>
                </p:nvSpPr>
                <p:spPr>
                  <a:xfrm flipH="1">
                    <a:off x="3468600" y="4219920"/>
                    <a:ext cx="57600" cy="918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8" name=""/>
                  <p:cNvSpPr/>
                  <p:nvPr/>
                </p:nvSpPr>
                <p:spPr>
                  <a:xfrm flipH="1" flipV="1">
                    <a:off x="3758040" y="4219560"/>
                    <a:ext cx="29880" cy="478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80" bIns="1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99" name=""/>
                <p:cNvSpPr/>
                <p:nvPr/>
              </p:nvSpPr>
              <p:spPr>
                <a:xfrm>
                  <a:off x="3789000" y="4265640"/>
                  <a:ext cx="576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0" name=""/>
                <p:cNvSpPr/>
                <p:nvPr/>
              </p:nvSpPr>
              <p:spPr>
                <a:xfrm>
                  <a:off x="3382920" y="4265640"/>
                  <a:ext cx="579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01" name=""/>
              <p:cNvSpPr/>
              <p:nvPr/>
            </p:nvSpPr>
            <p:spPr>
              <a:xfrm>
                <a:off x="3411720" y="4023360"/>
                <a:ext cx="407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10K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2" name=""/>
            <p:cNvSpPr/>
            <p:nvPr/>
          </p:nvSpPr>
          <p:spPr>
            <a:xfrm>
              <a:off x="4907880" y="3242520"/>
              <a:ext cx="315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1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3" name=""/>
            <p:cNvGrpSpPr/>
            <p:nvPr/>
          </p:nvGrpSpPr>
          <p:grpSpPr>
            <a:xfrm>
              <a:off x="4830840" y="3656520"/>
              <a:ext cx="471960" cy="287280"/>
              <a:chOff x="4830840" y="3656520"/>
              <a:chExt cx="471960" cy="287280"/>
            </a:xfrm>
          </p:grpSpPr>
          <p:grpSp>
            <p:nvGrpSpPr>
              <p:cNvPr id="704" name=""/>
              <p:cNvGrpSpPr/>
              <p:nvPr/>
            </p:nvGrpSpPr>
            <p:grpSpPr>
              <a:xfrm>
                <a:off x="4833720" y="3851640"/>
                <a:ext cx="463320" cy="92160"/>
                <a:chOff x="4833720" y="3851640"/>
                <a:chExt cx="463320" cy="92160"/>
              </a:xfrm>
            </p:grpSpPr>
            <p:grpSp>
              <p:nvGrpSpPr>
                <p:cNvPr id="705" name=""/>
                <p:cNvGrpSpPr/>
                <p:nvPr/>
              </p:nvGrpSpPr>
              <p:grpSpPr>
                <a:xfrm>
                  <a:off x="4889160" y="3851640"/>
                  <a:ext cx="349560" cy="92160"/>
                  <a:chOff x="4889160" y="3851640"/>
                  <a:chExt cx="349560" cy="92160"/>
                </a:xfrm>
              </p:grpSpPr>
              <p:sp>
                <p:nvSpPr>
                  <p:cNvPr id="706" name=""/>
                  <p:cNvSpPr/>
                  <p:nvPr/>
                </p:nvSpPr>
                <p:spPr>
                  <a:xfrm flipH="1" flipV="1">
                    <a:off x="4889160" y="3895920"/>
                    <a:ext cx="30240" cy="478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80" bIns="1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7" name=""/>
                  <p:cNvSpPr/>
                  <p:nvPr/>
                </p:nvSpPr>
                <p:spPr>
                  <a:xfrm flipH="1">
                    <a:off x="5150880" y="3851640"/>
                    <a:ext cx="57960" cy="921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360" bIns="45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8" name=""/>
                  <p:cNvSpPr/>
                  <p:nvPr/>
                </p:nvSpPr>
                <p:spPr>
                  <a:xfrm flipH="1" flipV="1">
                    <a:off x="5093280" y="3851640"/>
                    <a:ext cx="57600" cy="921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360" bIns="45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9" name=""/>
                  <p:cNvSpPr/>
                  <p:nvPr/>
                </p:nvSpPr>
                <p:spPr>
                  <a:xfrm flipH="1">
                    <a:off x="5034960" y="3851640"/>
                    <a:ext cx="57960" cy="921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360" bIns="45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0" name=""/>
                  <p:cNvSpPr/>
                  <p:nvPr/>
                </p:nvSpPr>
                <p:spPr>
                  <a:xfrm flipH="1" flipV="1">
                    <a:off x="4977000" y="3851640"/>
                    <a:ext cx="57960" cy="921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360" bIns="45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1" name=""/>
                  <p:cNvSpPr/>
                  <p:nvPr/>
                </p:nvSpPr>
                <p:spPr>
                  <a:xfrm flipH="1">
                    <a:off x="4919400" y="3851640"/>
                    <a:ext cx="57600" cy="921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360" bIns="45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2" name=""/>
                  <p:cNvSpPr/>
                  <p:nvPr/>
                </p:nvSpPr>
                <p:spPr>
                  <a:xfrm flipH="1" flipV="1">
                    <a:off x="5208840" y="3852000"/>
                    <a:ext cx="29880" cy="478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80" bIns="1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13" name=""/>
                <p:cNvSpPr/>
                <p:nvPr/>
              </p:nvSpPr>
              <p:spPr>
                <a:xfrm>
                  <a:off x="5239440" y="3897720"/>
                  <a:ext cx="576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4" name=""/>
                <p:cNvSpPr/>
                <p:nvPr/>
              </p:nvSpPr>
              <p:spPr>
                <a:xfrm>
                  <a:off x="4833720" y="3897720"/>
                  <a:ext cx="579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15" name=""/>
              <p:cNvSpPr/>
              <p:nvPr/>
            </p:nvSpPr>
            <p:spPr>
              <a:xfrm>
                <a:off x="4830840" y="3656520"/>
                <a:ext cx="4719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100K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6" name=""/>
            <p:cNvGrpSpPr/>
            <p:nvPr/>
          </p:nvGrpSpPr>
          <p:grpSpPr>
            <a:xfrm>
              <a:off x="3784680" y="5403960"/>
              <a:ext cx="471960" cy="288360"/>
              <a:chOff x="3784680" y="5403960"/>
              <a:chExt cx="471960" cy="288360"/>
            </a:xfrm>
          </p:grpSpPr>
          <p:grpSp>
            <p:nvGrpSpPr>
              <p:cNvPr id="717" name=""/>
              <p:cNvGrpSpPr/>
              <p:nvPr/>
            </p:nvGrpSpPr>
            <p:grpSpPr>
              <a:xfrm>
                <a:off x="3789000" y="5600160"/>
                <a:ext cx="463680" cy="92160"/>
                <a:chOff x="3789000" y="5600160"/>
                <a:chExt cx="463680" cy="92160"/>
              </a:xfrm>
            </p:grpSpPr>
            <p:grpSp>
              <p:nvGrpSpPr>
                <p:cNvPr id="718" name=""/>
                <p:cNvGrpSpPr/>
                <p:nvPr/>
              </p:nvGrpSpPr>
              <p:grpSpPr>
                <a:xfrm>
                  <a:off x="3844440" y="5600160"/>
                  <a:ext cx="349560" cy="92160"/>
                  <a:chOff x="3844440" y="5600160"/>
                  <a:chExt cx="349560" cy="92160"/>
                </a:xfrm>
              </p:grpSpPr>
              <p:sp>
                <p:nvSpPr>
                  <p:cNvPr id="719" name=""/>
                  <p:cNvSpPr/>
                  <p:nvPr/>
                </p:nvSpPr>
                <p:spPr>
                  <a:xfrm flipH="1" flipV="1">
                    <a:off x="3844440" y="5644080"/>
                    <a:ext cx="30240" cy="478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80" bIns="1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0" name=""/>
                  <p:cNvSpPr/>
                  <p:nvPr/>
                </p:nvSpPr>
                <p:spPr>
                  <a:xfrm flipH="1">
                    <a:off x="4106160" y="5600520"/>
                    <a:ext cx="57960" cy="918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1" name=""/>
                  <p:cNvSpPr/>
                  <p:nvPr/>
                </p:nvSpPr>
                <p:spPr>
                  <a:xfrm flipH="1" flipV="1">
                    <a:off x="4048560" y="5600160"/>
                    <a:ext cx="57600" cy="918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2" name=""/>
                  <p:cNvSpPr/>
                  <p:nvPr/>
                </p:nvSpPr>
                <p:spPr>
                  <a:xfrm flipH="1">
                    <a:off x="3990240" y="5600520"/>
                    <a:ext cx="57960" cy="918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3" name=""/>
                  <p:cNvSpPr/>
                  <p:nvPr/>
                </p:nvSpPr>
                <p:spPr>
                  <a:xfrm flipH="1" flipV="1">
                    <a:off x="3932280" y="5600160"/>
                    <a:ext cx="57960" cy="918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4" name=""/>
                  <p:cNvSpPr/>
                  <p:nvPr/>
                </p:nvSpPr>
                <p:spPr>
                  <a:xfrm flipH="1">
                    <a:off x="3874680" y="5600520"/>
                    <a:ext cx="57600" cy="918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5" name=""/>
                  <p:cNvSpPr/>
                  <p:nvPr/>
                </p:nvSpPr>
                <p:spPr>
                  <a:xfrm flipH="1" flipV="1">
                    <a:off x="4164120" y="5600160"/>
                    <a:ext cx="29880" cy="478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80" bIns="1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26" name=""/>
                <p:cNvSpPr/>
                <p:nvPr/>
              </p:nvSpPr>
              <p:spPr>
                <a:xfrm>
                  <a:off x="4195080" y="5646240"/>
                  <a:ext cx="576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7" name=""/>
                <p:cNvSpPr/>
                <p:nvPr/>
              </p:nvSpPr>
              <p:spPr>
                <a:xfrm>
                  <a:off x="3789000" y="5646240"/>
                  <a:ext cx="579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28" name=""/>
              <p:cNvSpPr/>
              <p:nvPr/>
            </p:nvSpPr>
            <p:spPr>
              <a:xfrm>
                <a:off x="3784680" y="5403960"/>
                <a:ext cx="4719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100K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9" name=""/>
            <p:cNvGrpSpPr/>
            <p:nvPr/>
          </p:nvGrpSpPr>
          <p:grpSpPr>
            <a:xfrm>
              <a:off x="3814200" y="4990320"/>
              <a:ext cx="415440" cy="379800"/>
              <a:chOff x="3814200" y="4990320"/>
              <a:chExt cx="415440" cy="379800"/>
            </a:xfrm>
          </p:grpSpPr>
          <p:grpSp>
            <p:nvGrpSpPr>
              <p:cNvPr id="730" name=""/>
              <p:cNvGrpSpPr/>
              <p:nvPr/>
            </p:nvGrpSpPr>
            <p:grpSpPr>
              <a:xfrm>
                <a:off x="3846960" y="5186520"/>
                <a:ext cx="348120" cy="183600"/>
                <a:chOff x="3846960" y="5186520"/>
                <a:chExt cx="348120" cy="183600"/>
              </a:xfrm>
            </p:grpSpPr>
            <p:sp>
              <p:nvSpPr>
                <p:cNvPr id="731" name=""/>
                <p:cNvSpPr/>
                <p:nvPr/>
              </p:nvSpPr>
              <p:spPr>
                <a:xfrm flipV="1">
                  <a:off x="4079160" y="5186520"/>
                  <a:ext cx="0" cy="183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2" name=""/>
                <p:cNvSpPr/>
                <p:nvPr/>
              </p:nvSpPr>
              <p:spPr>
                <a:xfrm flipV="1">
                  <a:off x="3962880" y="5186520"/>
                  <a:ext cx="0" cy="183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3" name=""/>
                <p:cNvSpPr/>
                <p:nvPr/>
              </p:nvSpPr>
              <p:spPr>
                <a:xfrm>
                  <a:off x="4079160" y="5278680"/>
                  <a:ext cx="1159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4" name=""/>
                <p:cNvSpPr/>
                <p:nvPr/>
              </p:nvSpPr>
              <p:spPr>
                <a:xfrm>
                  <a:off x="3846960" y="5278680"/>
                  <a:ext cx="1159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35" name=""/>
              <p:cNvSpPr/>
              <p:nvPr/>
            </p:nvSpPr>
            <p:spPr>
              <a:xfrm>
                <a:off x="3814200" y="4990320"/>
                <a:ext cx="4154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100f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6" name=""/>
            <p:cNvSpPr/>
            <p:nvPr/>
          </p:nvSpPr>
          <p:spPr>
            <a:xfrm>
              <a:off x="2239920" y="3758040"/>
              <a:ext cx="342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Times New Roman"/>
                </a:rPr>
                <a:t>R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2209680" y="4466520"/>
              <a:ext cx="342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C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38" name=""/>
            <p:cNvGrpSpPr/>
            <p:nvPr/>
          </p:nvGrpSpPr>
          <p:grpSpPr>
            <a:xfrm>
              <a:off x="2343960" y="3435840"/>
              <a:ext cx="455040" cy="287280"/>
              <a:chOff x="2343960" y="3435840"/>
              <a:chExt cx="455040" cy="287280"/>
            </a:xfrm>
          </p:grpSpPr>
          <p:sp>
            <p:nvSpPr>
              <p:cNvPr id="739" name=""/>
              <p:cNvSpPr/>
              <p:nvPr/>
            </p:nvSpPr>
            <p:spPr>
              <a:xfrm>
                <a:off x="2571480" y="3631320"/>
                <a:ext cx="0" cy="9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 flipH="1">
                <a:off x="2467440" y="3631320"/>
                <a:ext cx="2066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2343960" y="3435840"/>
                <a:ext cx="4550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VDD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2" name=""/>
            <p:cNvSpPr/>
            <p:nvPr/>
          </p:nvSpPr>
          <p:spPr>
            <a:xfrm>
              <a:off x="730800" y="4137480"/>
              <a:ext cx="349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I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5898600" y="4120200"/>
              <a:ext cx="1175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harge Outpu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5891400" y="4763160"/>
              <a:ext cx="1192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igger Outpu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1412280" y="3199320"/>
              <a:ext cx="1402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Times New Roman"/>
                </a:rPr>
                <a:t>Preamplifier bloc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dLT         Opera collaboration mee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C0CC0-0159-496D-8E4A-97E3D8452F0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9 jul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Current mirror performance</a:t>
            </a:r>
            <a:endParaRPr b="1" lang="en-US" sz="2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ully function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ain adjustment : 1.25*1.33*1.5 = 2.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low shaper : tp = 60 ns  G  = 34 mV/p.e. 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rm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noise : 600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µV  ; S/N = 6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st shaper : tp = 12 ns  G = 208 mV/p.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inearity :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±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1% up to 80 photoelectrons. Dynamic range :  5000 = 12 bi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2309760" y="1733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228600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2243160" y="1681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1" name="FIG6" descr=""/>
          <p:cNvPicPr/>
          <p:nvPr/>
        </p:nvPicPr>
        <p:blipFill>
          <a:blip r:embed="rId1"/>
          <a:stretch/>
        </p:blipFill>
        <p:spPr>
          <a:xfrm>
            <a:off x="142920" y="2828880"/>
            <a:ext cx="4657680" cy="3495600"/>
          </a:xfrm>
          <a:prstGeom prst="rect">
            <a:avLst/>
          </a:prstGeom>
          <a:ln w="0">
            <a:noFill/>
          </a:ln>
        </p:spPr>
      </p:pic>
      <p:sp>
        <p:nvSpPr>
          <p:cNvPr id="752" name=""/>
          <p:cNvSpPr/>
          <p:nvPr/>
        </p:nvSpPr>
        <p:spPr>
          <a:xfrm>
            <a:off x="3162240" y="2371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3" name="FIG7BIS" descr=""/>
          <p:cNvPicPr/>
          <p:nvPr/>
        </p:nvPicPr>
        <p:blipFill>
          <a:blip r:embed="rId2"/>
          <a:stretch/>
        </p:blipFill>
        <p:spPr>
          <a:xfrm>
            <a:off x="4495680" y="2895480"/>
            <a:ext cx="4496040" cy="3372120"/>
          </a:xfrm>
          <a:prstGeom prst="rect">
            <a:avLst/>
          </a:prstGeom>
          <a:ln w="0">
            <a:noFill/>
          </a:ln>
        </p:spPr>
      </p:pic>
      <p:sp>
        <p:nvSpPr>
          <p:cNvPr id="754" name=""/>
          <p:cNvSpPr/>
          <p:nvPr/>
        </p:nvSpPr>
        <p:spPr>
          <a:xfrm>
            <a:off x="2055240" y="3413160"/>
            <a:ext cx="165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1 MIP = 6 p.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5102640" y="5576760"/>
            <a:ext cx="346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Slow shaper : Residuals of linear f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5105520" y="3581280"/>
            <a:ext cx="3429000" cy="0"/>
          </a:xfrm>
          <a:prstGeom prst="line">
            <a:avLst/>
          </a:prstGeom>
          <a:ln cap="sq"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5105520" y="4495680"/>
            <a:ext cx="3429000" cy="0"/>
          </a:xfrm>
          <a:prstGeom prst="line">
            <a:avLst/>
          </a:prstGeom>
          <a:ln cap="sq"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6161760" y="44578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Times New Roman"/>
                <a:ea typeface="Times New Roman"/>
              </a:rPr>
              <a:t>± 0.5 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1139760" y="5257800"/>
            <a:ext cx="184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00"/>
                </a:solidFill>
                <a:latin typeface="Times New Roman"/>
              </a:rPr>
              <a:t>1/2 photelect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dLT         Opera collaboration mee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BC8FB-99F1-4A0A-9E8E-5DBE0EBB40B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9 jul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Common base performance</a:t>
            </a:r>
            <a:endParaRPr b="1" lang="en-US" sz="2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ully function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scillations between neighbours : 100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necessary in emitt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ain adjustment : 1-4.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st and slow shaper similar to current mirror version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inearity :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±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1% up to 90 photoelectrons. Dynamic range : 10000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2309760" y="1733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228600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2243160" y="1681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3162240" y="2371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2152800" y="16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7" name="FIG12" descr=""/>
          <p:cNvPicPr/>
          <p:nvPr/>
        </p:nvPicPr>
        <p:blipFill>
          <a:blip r:embed="rId1"/>
          <a:stretch/>
        </p:blipFill>
        <p:spPr>
          <a:xfrm>
            <a:off x="228600" y="2895480"/>
            <a:ext cx="4552920" cy="3414960"/>
          </a:xfrm>
          <a:prstGeom prst="rect">
            <a:avLst/>
          </a:prstGeom>
          <a:ln w="0">
            <a:noFill/>
          </a:ln>
        </p:spPr>
      </p:pic>
      <p:sp>
        <p:nvSpPr>
          <p:cNvPr id="768" name=""/>
          <p:cNvSpPr/>
          <p:nvPr/>
        </p:nvSpPr>
        <p:spPr>
          <a:xfrm>
            <a:off x="3162240" y="2371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9" name="FIG13BIS" descr=""/>
          <p:cNvPicPr/>
          <p:nvPr/>
        </p:nvPicPr>
        <p:blipFill>
          <a:blip r:embed="rId2"/>
          <a:stretch/>
        </p:blipFill>
        <p:spPr>
          <a:xfrm>
            <a:off x="4572000" y="2990880"/>
            <a:ext cx="4343400" cy="3257640"/>
          </a:xfrm>
          <a:prstGeom prst="rect">
            <a:avLst/>
          </a:prstGeom>
          <a:ln w="0">
            <a:noFill/>
          </a:ln>
        </p:spPr>
      </p:pic>
      <p:sp>
        <p:nvSpPr>
          <p:cNvPr id="770" name=""/>
          <p:cNvSpPr/>
          <p:nvPr/>
        </p:nvSpPr>
        <p:spPr>
          <a:xfrm>
            <a:off x="5102640" y="5562720"/>
            <a:ext cx="346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Slow shaper : Residuals of linear f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5105520" y="3733920"/>
            <a:ext cx="3429000" cy="0"/>
          </a:xfrm>
          <a:prstGeom prst="line">
            <a:avLst/>
          </a:prstGeom>
          <a:ln cap="sq"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5105520" y="4267080"/>
            <a:ext cx="3429000" cy="0"/>
          </a:xfrm>
          <a:prstGeom prst="line">
            <a:avLst/>
          </a:prstGeom>
          <a:ln cap="sq"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6225480" y="420516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Times New Roman"/>
                <a:ea typeface="Times New Roman"/>
              </a:rPr>
              <a:t>± 0.5 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1828800" y="3124080"/>
            <a:ext cx="152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Preamp out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dLT         Opera collaboration mee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CF41E-6F66-448C-8C92-3D1E7D0E4D2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9 jul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Noise performance</a:t>
            </a:r>
            <a:endParaRPr b="1" lang="en-US" sz="2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oise in photoelectrons with variable shap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etter performance at fast shaping for the common bas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ise dominated by parallel noi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2309760" y="1733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228600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2243160" y="1681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3162240" y="2371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2152800" y="16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3162240" y="2371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3" name="" descr=""/>
          <p:cNvPicPr/>
          <p:nvPr/>
        </p:nvPicPr>
        <p:blipFill>
          <a:blip r:embed="rId1"/>
          <a:stretch/>
        </p:blipFill>
        <p:spPr>
          <a:xfrm>
            <a:off x="1828800" y="2286000"/>
            <a:ext cx="4572000" cy="403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dLT         Opera collaboration mee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4C176-5C16-495B-BAB2-2290C7BE37A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9 jul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4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3178080" cy="4114800"/>
          </a:xfrm>
          <a:prstGeom prst="rect">
            <a:avLst/>
          </a:prstGeom>
          <a:ln w="0">
            <a:noFill/>
          </a:ln>
        </p:spPr>
      </p:pic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Front-end chip for HPD </a:t>
            </a:r>
            <a:endParaRPr b="1" lang="en-US" sz="2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mplete front-end chip,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16 inputs, 1 trigger + 1 multiplexed outpu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00"/>
                </a:solidFill>
                <a:latin typeface="Times New Roman"/>
              </a:rPr>
              <a:t>low nois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charge preamplifier (C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= 0.25 pF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st shaper (75ns) for </a:t>
            </a:r>
            <a:r>
              <a:rPr b="0" lang="en-US" sz="1600" spc="-1" strike="noStrike">
                <a:solidFill>
                  <a:srgbClr val="009900"/>
                </a:solidFill>
                <a:latin typeface="Times New Roman"/>
              </a:rPr>
              <a:t>auto-trigg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low shaper (500 ns) for accurate charge measurement (minimum nois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n chip track and hold and output multiplex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2309760" y="1733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228600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1800360" y="157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0" name="synoptic2" descr=""/>
          <p:cNvPicPr/>
          <p:nvPr/>
        </p:nvPicPr>
        <p:blipFill>
          <a:blip r:embed="rId2"/>
          <a:stretch/>
        </p:blipFill>
        <p:spPr>
          <a:xfrm>
            <a:off x="228600" y="2924280"/>
            <a:ext cx="5543640" cy="3705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dLT         Opera collaboration mee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BEB02-0001-4A71-A121-282EB5BEDAD8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9 jul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Measurement results (I)</a:t>
            </a:r>
            <a:endParaRPr b="1" lang="en-US" sz="2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eamplifi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est channel with preamp output accessible, followed by variable shap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eamplifier gain : 1.8 mV/p.e.  (1 p.e. = 3000 e-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ise time :  t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= 90 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od agreement with simulation, except for noi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2309760" y="1733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228600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1800360" y="157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1981080" y="125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1981080" y="125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2676600" y="1881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3238560" y="24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0" name="SIGPACN" descr=""/>
          <p:cNvPicPr/>
          <p:nvPr/>
        </p:nvPicPr>
        <p:blipFill>
          <a:blip r:embed="rId1"/>
          <a:stretch/>
        </p:blipFill>
        <p:spPr>
          <a:xfrm>
            <a:off x="457200" y="3048120"/>
            <a:ext cx="3962520" cy="2971800"/>
          </a:xfrm>
          <a:prstGeom prst="rect">
            <a:avLst/>
          </a:prstGeom>
          <a:ln w="0">
            <a:noFill/>
          </a:ln>
        </p:spPr>
      </p:pic>
      <p:sp>
        <p:nvSpPr>
          <p:cNvPr id="801" name=""/>
          <p:cNvSpPr/>
          <p:nvPr/>
        </p:nvSpPr>
        <p:spPr>
          <a:xfrm>
            <a:off x="1226520" y="3290760"/>
            <a:ext cx="273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Preamp output  Qin=10 p.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2" name="" descr=""/>
          <p:cNvPicPr/>
          <p:nvPr/>
        </p:nvPicPr>
        <p:blipFill>
          <a:blip r:embed="rId2"/>
          <a:stretch/>
        </p:blipFill>
        <p:spPr>
          <a:xfrm>
            <a:off x="6326280" y="2133720"/>
            <a:ext cx="19796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dLT         Opera collaboration mee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76046-A110-4EAE-A26E-87F3C9F964B8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9 jul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06T11:37:33Z</dcterms:created>
  <dc:creator>CdLT</dc:creator>
  <dc:description/>
  <dc:language>en-US</dc:language>
  <cp:lastModifiedBy>J.E Campagne</cp:lastModifiedBy>
  <cp:lastPrinted>2000-09-07T15:05:17Z</cp:lastPrinted>
  <dcterms:modified xsi:type="dcterms:W3CDTF">2005-04-08T12:37:52Z</dcterms:modified>
  <cp:revision>89</cp:revision>
  <dc:subject/>
  <dc:title>LAr Status report  2001</dc:title>
</cp:coreProperties>
</file>